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2D924-FCB4-4848-8BE4-04977536F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B6F6-D5B6-4281-9026-A0774D6A5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FD70-8056-43C9-864E-6383CAB81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918C3-1682-4B48-9E08-41A4F847D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D7CDB-DC9B-4F2E-8875-D4C8993C9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59B13-9D41-488A-A45B-D6698732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89845-25EC-4AC0-A638-6E9FFA499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12AB-D4A8-4D65-8CF0-945F4FA9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66E54-F1D5-4C5A-A02A-F943C3591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0C2B-54F8-4E63-BADC-FE873E0A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86F8-FB87-41A3-9466-6EC5AEE0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CD35-EBC6-466C-87F6-D39D44386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2478-4B93-4D69-8C24-6EFE294B4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914400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ea typeface="Times New Roman"/>
              </a:rPr>
              <a:t>ASPECTOS CONTROVERTIDOS DE LA ACCIÓN DE REPETICIÓN DE IMPUE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DISTINCIÓN ENTRE REPETICIÓN Y DEVOLUCIÓN</a:t>
            </a:r>
            <a:r>
              <a:rPr b="1" lang="es-AR" sz="1600" spc="-1" strike="noStrike" u="sng">
                <a:solidFill>
                  <a:srgbClr val="000000"/>
                </a:solidFill>
                <a:uFillTx/>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DEVOLUCIÓN  SE DIFERENCIA DE LA REPETICIÓN  EN QUE, </a:t>
            </a:r>
            <a:r>
              <a:rPr b="1" lang="es-AR" sz="1600" spc="-1" strike="noStrike">
                <a:solidFill>
                  <a:srgbClr val="000000"/>
                </a:solidFill>
                <a:latin typeface="Arial"/>
                <a:ea typeface="Times New Roman"/>
              </a:rPr>
              <a:t> </a:t>
            </a:r>
            <a:r>
              <a:rPr b="1" lang="es-ES" sz="1600" spc="-1" strike="noStrike">
                <a:solidFill>
                  <a:srgbClr val="000000"/>
                </a:solidFill>
                <a:latin typeface="Arial"/>
                <a:ea typeface="Times New Roman"/>
              </a:rPr>
              <a:t>MIENTRAS EN LA REPETICIÓN SE INTENTA OBTENER LA DEVOLUCIÓN DE SUMAS PAGADAS EN EXCESO O INDEBIDAMENTE Y EXISTE CONTROVERSIA CON EL FISCO, EN LA DEVOLUCIÓN NO EXISTE CONTROVERSIA CON EL FISCO EN CUANTO AL CARÁCTER DE PAGO EN EXCESO DE LAS SUMAS A DEVOLVER.</a:t>
            </a:r>
            <a:r>
              <a:rPr b="0" lang="es-E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44792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REPETICIÓN SE DEDUCIRÁ A OPCIÓN DEL CONTRIBUYENTE, MEDIANTE LAS SIGUIENTES VÍAS RECURSIV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CURSO DE APELACIÓN ANTE EL TRIBUNAL FISCAL DE LA NACIÓN (ART. 76)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MANDA ANTE LA JUSTICIA NACIONAL (ART. 8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 EXISTE UN TÉRMINO PERENTORIO PARA INTERPONER LA DEMANDA DE REPETICIÓN, SIENDO LA ÚNICA LIMITACIÓN EN ESTE ASPECTO, LA PRESCRIPCIÓN DE LA AC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380880"/>
            <a:ext cx="914400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DDJJ ORIGINAL QUE DETERMINA IMPUESTO SIN SER INGRESADO AL FISCO Y RECTIFICATIVA POSTERIOR CON MENOR IMPUESTO DETERMINAD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L ARTÍCULO 13 </a:t>
            </a:r>
            <a:r>
              <a:rPr b="1" lang="es-AR" sz="1600" spc="-1" strike="noStrike">
                <a:solidFill>
                  <a:srgbClr val="000000"/>
                </a:solidFill>
                <a:latin typeface="Arial"/>
                <a:ea typeface="Times New Roman"/>
              </a:rPr>
              <a:t>ESTABLECE </a:t>
            </a:r>
            <a:r>
              <a:rPr b="1" lang="es-ES" sz="1600" spc="-1" strike="noStrike">
                <a:solidFill>
                  <a:srgbClr val="000000"/>
                </a:solidFill>
                <a:latin typeface="Arial"/>
                <a:ea typeface="Times New Roman"/>
              </a:rPr>
              <a:t>Q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DECLARACIÓN JURADA ESTÁ SUJETA A VERIFICACIÓN ADMINISTRATIVA Y, SIN PERJUICIO DEL TRIBUTO QUE EN DEFINITIVA LIQUIDE O DETERMINE LA ADMINISTRACION FEDERAL DE INGRESOS PUBLICOS </a:t>
            </a:r>
            <a:r>
              <a:rPr b="1" lang="es-ES" sz="1600" spc="-1" strike="noStrike" u="sng">
                <a:solidFill>
                  <a:srgbClr val="000000"/>
                </a:solidFill>
                <a:uFillTx/>
                <a:latin typeface="Arial"/>
                <a:ea typeface="Times New Roman"/>
              </a:rPr>
              <a:t>HACE RESPONSABLE AL DECLARANTE POR EL GRAVAMEN QUE EN ELLA SE BASE O RESULTE, CUYO MONTO NO PODRÁ REDUCIR POR DECLARACIONES POSTERIORES, SALVO EN LOS CASOS DE ERRORES DE CÁLCULO COMETIDOS EN LA DECLARACIÓN MISMA.</a:t>
            </a:r>
            <a:r>
              <a:rPr b="1" lang="es-ES" sz="1600" spc="-1" strike="noStrike">
                <a:solidFill>
                  <a:srgbClr val="000000"/>
                </a:solidFill>
                <a:latin typeface="Arial"/>
                <a:ea typeface="Times New Roman"/>
              </a:rPr>
              <a:t> </a:t>
            </a:r>
            <a:r>
              <a:rPr b="1" lang="es-ES" sz="1600" spc="-1" strike="noStrike" u="sng">
                <a:solidFill>
                  <a:srgbClr val="000000"/>
                </a:solidFill>
                <a:uFillTx/>
                <a:latin typeface="Arial"/>
                <a:ea typeface="Times New Roman"/>
              </a:rPr>
              <a:t>EL DECLARANTE SERÁ TAMBIÉN RESPONSABLE EN CUANTO A LA EXACTITUD DE LOS DATOS QUE CONTENGA SU DECLARACIÓN,</a:t>
            </a:r>
            <a:r>
              <a:rPr b="1" lang="es-ES" sz="1600" spc="-1" strike="noStrike">
                <a:solidFill>
                  <a:srgbClr val="000000"/>
                </a:solidFill>
                <a:latin typeface="Arial"/>
                <a:ea typeface="Times New Roman"/>
              </a:rPr>
              <a:t> </a:t>
            </a:r>
            <a:r>
              <a:rPr b="1" lang="es-ES" sz="1600" spc="-1" strike="noStrike" u="sng">
                <a:solidFill>
                  <a:srgbClr val="000000"/>
                </a:solidFill>
                <a:uFillTx/>
                <a:latin typeface="Arial"/>
                <a:ea typeface="Times New Roman"/>
              </a:rPr>
              <a:t>SIN QUE LA PRESENTACIÓN DE OTRA POSTERIOR, AUNQUE NO LE SEA REQUERIDA, HAGA DESAPARECER DICHA RESPONSABILIDAD</a:t>
            </a:r>
            <a:r>
              <a:rPr b="1" lang="es-ES" sz="1600" spc="-1" strike="noStrike">
                <a:solidFill>
                  <a:srgbClr val="000000"/>
                </a:solidFill>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ea typeface="Times New Roman"/>
              </a:rPr>
              <a:t>LA AFIP CONSIDERA QUE, SALVO ERROR DE CALCULO EN LA PROPIA DDJJ, TODA DISMINUCIÓN DE SALDO SE ENCUENTRA SUJETA A REPETICION, PREVIO PAGO. (DICTAMENES 120/88; 56/96 Y 6/8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990720"/>
            <a:ext cx="9144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JURISPRUD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OEHLER ARGENTINA SA - TFN - 07/04/1965</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ODA VEZ QUE LA LEY 11683 SÓLO AUTORIZA LA PRESENTACIÓN DE DECLARACIONES JURADAS RECTIFICATIVAS EN EL CASO DE ERRORES DE CÁLCULO, Y SIENDO QUE LA DECLARACIÓN JURADA RECTIFICATIVA PRESENTADA POR EL RESPONSABLE SE FUNDA EN UNA EXENCIÓN IMPOSITIVA NO TOMADA EN CUENTA CON ANTERIORIDAD, SUPUESTO MANIFIESTAMENTE AJENO A UN ERROR DE CÁLCULO, </a:t>
            </a:r>
            <a:r>
              <a:rPr b="1" lang="es-ES" sz="1800" spc="-1" strike="noStrike" u="sng">
                <a:solidFill>
                  <a:srgbClr val="000000"/>
                </a:solidFill>
                <a:uFillTx/>
                <a:latin typeface="Arial"/>
                <a:ea typeface="Times New Roman"/>
              </a:rPr>
              <a:t>CABE CONCLUIR QUE LA RECURRENTE NO PUDO EFECTUAR LA PRESENTACIÓN DE LA DECLARACIÓN JURADA RECTIFICATIVA TAL COMO LO HIZO Y QUE LA OBLIGACIÓN TRIBUTARIA QUEDÓ CONFIGURADA AL PRESENTAR LA DECLARACIÓN JURADA ORIGINAR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685800"/>
            <a:ext cx="9144000" cy="588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FORMA DE DEMOSTRACIÓN DEL EMPOBRECIMIENTO EN EL I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SDE 1973 A 1976 LA DOCTRINA FALLO MELLOR GOODWIN  </a:t>
            </a:r>
            <a:r>
              <a:rPr b="1" lang="es-ES" sz="1800" spc="-1" strike="noStrike" u="sng">
                <a:solidFill>
                  <a:srgbClr val="000000"/>
                </a:solidFill>
                <a:uFillTx/>
                <a:latin typeface="Arial"/>
                <a:ea typeface="Times New Roman"/>
              </a:rPr>
              <a:t>REQUERÍA NO SOLO LA EXISTENCIA DE UN PAGO SIN CAUSA SINO TAMBIÉN DEMOSTRAR EL EMPOBRECIMI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1977 LA CORTE CAMBIA EL CRITERIO EN EL FALLO PETROQUÍMICA ARGENTINA S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EL 2003 LA LEY 25.795 MODIFICA LA LEY DE PROCEDIMIENTO, </a:t>
            </a:r>
            <a:r>
              <a:rPr b="1" lang="es-ES" sz="1800" spc="-1" strike="noStrike" u="sng">
                <a:solidFill>
                  <a:srgbClr val="000000"/>
                </a:solidFill>
                <a:uFillTx/>
                <a:latin typeface="Arial"/>
                <a:ea typeface="Times New Roman"/>
              </a:rPr>
              <a:t>RETORNANDO A LA DOCTRINA ANTERIO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LE INCORPORA UN ÚLTIMO PÁRRAFO ARTÍCULO 81 QUE DI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u="sng">
                <a:solidFill>
                  <a:srgbClr val="000000"/>
                </a:solidFill>
                <a:uFillTx/>
                <a:latin typeface="Arial"/>
                <a:ea typeface="Times New Roman"/>
              </a:rPr>
              <a:t>LOS IMPUESTOS INDIRECTOS SÓLO PODRÁN SER REPETIDOS POR LOS CONTRIBUYENTES DE DERECHO CUANDO ÉSTOS ACREDITAREN QUE NO HAN TRASLADADO TAL IMPUESTO AL PRECIO, O BIEN CUANDO HABIÉNDOLO TRASLADADO ACREDITAREN SU DEVOLUCIÓN EN LA FORMA Y CONDICIONES QUE ESTABLEZCA LA ADMINISTRACIÓN FEDERAL DE INGRESOS PÚBLICO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838080"/>
            <a:ext cx="9144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JURISPRUD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RIBUNAL FISCAL DE LA NACIÓN, SALA C, AMCE S.R.L. 02/02/2006</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I BIEN CABRÍA HACER LUGAR A LA REPETICIÓN DEL IMPUESTO AL VALOR AGREGADO INTENTADA POR UNA EMPRESA DE MEDICINA PREPAGA, QUE AL ENCONTRARSE BENEFICIADA POR UNA EXENCIÓN HABRÍA INGRESADO EL TRIBUTO SIN CAUSA, NO PUEDE PROSPERAR SU RECLAMO, POR CUANTO LA SOCIEDAD CARECE DE INTERÉS LEGÍTIMO PARA SOLICITAR LA DEVOLUCIÓN DE LAS SUMAS QUE HAYA INGRESADO EN TAL CONCEPTO, </a:t>
            </a:r>
            <a:r>
              <a:rPr b="1" lang="es-ES" sz="1800" spc="-1" strike="noStrike" u="sng">
                <a:solidFill>
                  <a:srgbClr val="000000"/>
                </a:solidFill>
                <a:uFillTx/>
                <a:latin typeface="Arial"/>
                <a:ea typeface="Times New Roman"/>
              </a:rPr>
              <a:t>PUESTO QUE POR SU NATURALEZA, EL TRIBUTO EN CUESTIÓN ES ESENCIALMENTE TRASLADABLE A LOS CONSUMIDORES DEL SERVICIO PRESTADO POR LA ACTORA CON LO CUAL NO CAUSÓ UN MENOSCABO PATRIMONIAL A QUIEN REALIZÓ SU PAG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219320"/>
            <a:ext cx="91440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CLUB MAR DEL PLATA SA - TFN - SALA A - 3/3/201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TRIBUNAL HIZO LUGAR A LA REPETICIÓN. PARA ELLO, TUVO EN CUENTA QUE LA ENTIDAD FUNCIONA BAJO LA FORMA DE SOCIEDAD ANÓNIMA COMO UNA ASOCIACIÓN SIN FINES DE LUCRO. ASÍ SE DESESTIMÓ EL ARGUMENTO DEL FISCO, RELATIVO A QUE LA PROCEDENCIA DE LA REPETICIÓN IMPLICARÍA UN ENRIQUECIMIENTO SIN CAUSA DE LA ACTORA. ELLO ASÍ, ATENTO QUE EL MONTO OBTENIDO SOLO PUEDE VOLCARSE EN BENEFICIO DE LOS PROPIOS SOCIOS PERCUTIDOS POR EL IMPU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066680"/>
            <a:ext cx="9144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UNICIPALIDAD DE MONTECRISTO – C.N.FED. </a:t>
            </a:r>
            <a:r>
              <a:rPr b="1" lang="es-AR" sz="1800" spc="-1" strike="noStrike">
                <a:solidFill>
                  <a:srgbClr val="000000"/>
                </a:solidFill>
                <a:latin typeface="Arial"/>
                <a:ea typeface="Times New Roman"/>
              </a:rPr>
              <a:t>CONT. ADM. - SALA III - 26/10/2009</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HIZO LUGAR A LA REPETICIÓN DEL IMPUESTO AL VALOR AGREGADO SOBRE LA TASA POR EL SERVICIO DE SUMINISTRO DE AGUA QUE PRESTA LA MUNICIPALIDAD ACTORA. </a:t>
            </a:r>
            <a:r>
              <a:rPr b="1" lang="es-ES" sz="1800" spc="-1" strike="noStrike" u="sng">
                <a:solidFill>
                  <a:srgbClr val="000000"/>
                </a:solidFill>
                <a:uFillTx/>
                <a:latin typeface="Arial"/>
                <a:ea typeface="Times New Roman"/>
              </a:rPr>
              <a:t>SE TRATA AQUÍ, DE UN ESTADO MUNICIPAL, SIN FINES DE LUCRO, CUYA FINALIDAD ES SATISFACER LAS NECESIDADES DE LA COMUNIDAD, LO QUE DEJA SIN SUSTENTO EL ARGUMENTO DEL FISCO RELATIVO A QUE LA PROCEDENCIA DE LA REPETICIÓN IMPLICARÍA UN ENRIQUECIMIENTO SIN CAUSA DE LA ACTORA, YA QUE EL MONTO OBTENIDO SÓLO PUEDE VOLCARSE EN SERVICIOS A LOS CONTRIBUYENTES DE ESE MUNICIPIO, ES DECIR, LOS MISMOS USUARIOS QUE PAGARON LA TASA POR EL SERVICIO DE AGU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2057400"/>
            <a:ext cx="9144000" cy="280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ESTACIÓN SA CÁM. NAC. </a:t>
            </a:r>
            <a:r>
              <a:rPr b="1" lang="en-US" sz="1600" spc="-1" strike="noStrike">
                <a:solidFill>
                  <a:srgbClr val="000000"/>
                </a:solidFill>
                <a:latin typeface="Arial"/>
                <a:ea typeface="Times New Roman"/>
              </a:rPr>
              <a:t>CONT. ADM. FED. </a:t>
            </a:r>
            <a:r>
              <a:rPr b="1" lang="es-AR" sz="1600" spc="-1" strike="noStrike">
                <a:solidFill>
                  <a:srgbClr val="000000"/>
                </a:solidFill>
                <a:latin typeface="Arial"/>
                <a:ea typeface="Times New Roman"/>
              </a:rPr>
              <a:t>SALA: III, 29/09/2009.</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REVOCÓ LA SENTENCIA DEL TRIBUNAL FISCAL DE LA NACIÓN E HIZO LUGAR A LA EXCEPCIÓN DE FALTA DE LEGITIMACIÓN ACTIVA ARTICULADA POR LA REPRESENTACIÓN FISCAL </a:t>
            </a:r>
            <a:r>
              <a:rPr b="1" lang="es-ES" sz="1600" spc="-1" strike="noStrike" u="sng">
                <a:solidFill>
                  <a:srgbClr val="000000"/>
                </a:solidFill>
                <a:uFillTx/>
                <a:latin typeface="Arial"/>
                <a:ea typeface="Times New Roman"/>
              </a:rPr>
              <a:t>POR CONSIDERAR ACREDITADA LA TRASLACIÓN DEL IMPUESTO A LOS CONSUMIDORES FINALES, NO EXISTIENDO PERJUICIO PERSONAL</a:t>
            </a:r>
            <a:r>
              <a:rPr b="1" lang="es-ES" sz="1600" spc="-1" strike="noStrike">
                <a:solidFill>
                  <a:srgbClr val="000000"/>
                </a:solidFill>
                <a:latin typeface="Arial"/>
                <a:ea typeface="Times New Roman"/>
              </a:rPr>
              <a:t> QUE CONSTITUYA UN REQUISITO VINCULADO CON LA LEGITIMACIÓN PARA RECLAMAR. PARA ASÍ RESOLVER TUVO PRESENTE LA DOCTRINA EMANADA DEL FALLO DE NUESTRO MÁS ALTO TRIBUNAL IN RE "NOBLEZA PICCARDO SACI", DE FECHA 5/10/2004,</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129528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CORTE SUPREMA DE JUSTICIA DE LA NACIÓN • 05/10/2004 • NOBLEZA PICCARDO ASCII. /C. ESTADO NACIONAL </a:t>
            </a:r>
            <a:r>
              <a:rPr b="1" lang="es-AR" sz="1800" spc="-1" strike="noStrike">
                <a:solidFill>
                  <a:srgbClr val="000000"/>
                </a:solidFill>
                <a:latin typeface="Arial"/>
                <a:ea typeface="Times New Roman"/>
              </a:rPr>
              <a:t>DIJ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RRESPONDE RECHAZAR LA DEMANDA DE REPETICIÓN PROMOVIDA CONTRA EL ESTADO NACIONAL - CON EL OBJETO DE OBTENER LA RESTITUCIÓN DE LAS SUMAS ABONADAS EN CONCEPTO DE CONTRIBUCIÓN AL "FONDO TRANSITORIO PARA FINANCIAR DESEQUILIBRIOS FISCALES PROVINCIALES", PUES LA LESIÓN ADUCIDA AL ART. 17 DE LA CONSTITUCIÓN NACIONAL CONSISTE SOLAMENTE EN EL MONTO DEL IMPUESTO INGRESADO PERO NO PUEDE PASARSE POR ALTO QUE DE ACUERDO A LA PERICIA CONTABLE, CONSENTIDA EXPRESAMENTE POR LA ACTORA, AQUÉL INTEGRABA EL PRECIO DE VENTA DE LOS CIGARRILLOS, NO ADVIRTIÉNDOSE ENTONCES EN QUÉ PODRÍA CONSISTIR LA LESIÓN PATRIMONIAL ALEGAD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914400"/>
            <a:ext cx="9144000" cy="48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RETENCIONES REALIZADAS CON CARÁCTER DE PAGO ÚNICO Y DEFINITIVO</a:t>
            </a:r>
            <a:r>
              <a:rPr b="1" lang="es-ES" sz="1600" spc="-1" strike="noStrike" u="sng">
                <a:solidFill>
                  <a:srgbClr val="000000"/>
                </a:solidFill>
                <a:uFillTx/>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N CUANTO A LOS AGENTES DE RETENCIÓN Y PERCEPCIÓN, EL FISCO NACIONAL HA SOSTENIDO DICTAMEN  21/85 - DATJ (DGI))  QUE COMO LAS RETENCIONES EFECTUADAS EN EXCESO SÓLO PUEDEN SER REPETIDAS POR EL SUJETO QUE HA SUFRIDO PATRIMONIALMENTE EL PAGO SIN CAUSA, </a:t>
            </a:r>
            <a:r>
              <a:rPr b="1" lang="es-ES" sz="1600" spc="-1" strike="noStrike" u="sng">
                <a:solidFill>
                  <a:srgbClr val="000000"/>
                </a:solidFill>
                <a:uFillTx/>
                <a:latin typeface="Arial"/>
                <a:ea typeface="Times New Roman"/>
              </a:rPr>
              <a:t>EL RETENTISTA NO SE ENCUENTRA FACULTADO PARA REPETIR, A EXCEPCIÓN DE QUE ACREDITE QUE HA RESTITUIDO AL CONTRIBUYENTE LO QUE ERRÓNEAMENTE LE HUBIERE DETRAÍDO</a:t>
            </a: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I EMBARGO TRIBUNAL FISCAL, SALA A, EL 8/5/98, EN  PODLISZEWSKI LIDIA, HA ESTABLECID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ARECE DE ACCIÓN PARA REPETIR EL IMPUESTO AL VALOR AGREGADO AQUÉL QUE NO INGRESÓ DIRECTAMENTE AL TRIBUTO AL ENTE FISCAL -EN EL CASO, EL ADQUIRENTE DE UN AUTOMÓVIL PARA LISIADOS QUE SE ENCONTRABA AMPARADO POR EL RÉGIMEN DE LA LEY 19.279-, PUES QUIEN ACCIONA DEBE SER TITULAR DE LA ACCIÓN EN QUE FUNDA SU PRETENSIÓN, ESTO ES, EL SUJETO PASIVO DEL GRAVAM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371600"/>
            <a:ext cx="914400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LEY 11683 ESTABLECE EN SU ARTÍCULO 36</a:t>
            </a:r>
            <a:r>
              <a:rPr b="1" lang="es-AR" sz="1600" spc="-1" strike="noStrike">
                <a:solidFill>
                  <a:srgbClr val="000000"/>
                </a:solidFill>
                <a:latin typeface="Arial"/>
                <a:ea typeface="Times New Roman"/>
              </a:rPr>
              <a:t> </a:t>
            </a:r>
            <a:r>
              <a:rPr b="1" lang="es-ES" sz="1600" spc="-1" strike="noStrike">
                <a:solidFill>
                  <a:srgbClr val="000000"/>
                </a:solidFill>
                <a:latin typeface="Arial"/>
                <a:ea typeface="Times New Roman"/>
              </a:rPr>
              <a:t>LAS CONDICIONES PARA QUE LOS CONTRIBUYENTES SOLICITEN LA ACREDITACIÓN, DEVOLUCIÓN Y TRANSFERENCIAS DE LOS IMPORTES POR LOS CUALES EXISTAN PAGOS O INGRESOS EN EXCES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MO CONSECUENCIA DE LA COMPENSACIÓN PREVISTA EN EL ARTÍCULO ANTERIOR O CUANDO COMPRUEBE LA EXISTENCIA DE PAGOS O INGRESOS EN EXCESO, PODRÁ LA DIRECCIÓN GENERAL DE OFICIO O A SOLICITUD DEL INTERESADO ACREDITARLE EL REMANENTE RESPECTIVO, O SI LO ESTIMA NECESARIO EN ATENCIÓN AL MONTO O A LAS CIRCUNSTANCIAS, </a:t>
            </a:r>
            <a:r>
              <a:rPr b="1" lang="es-ES" sz="1600" spc="-1" strike="noStrike" u="sng">
                <a:solidFill>
                  <a:srgbClr val="000000"/>
                </a:solidFill>
                <a:uFillTx/>
                <a:latin typeface="Arial"/>
                <a:ea typeface="Times New Roman"/>
              </a:rPr>
              <a:t>PROCEDER A LA DEVOLUCIÓN DE LO PAGADO DE MÁS, EN FORMA SIMPLE Y RÁPIDA</a:t>
            </a:r>
            <a:r>
              <a:rPr b="1" lang="es-ES" sz="1600" spc="-1" strike="noStrike">
                <a:solidFill>
                  <a:srgbClr val="000000"/>
                </a:solidFill>
                <a:latin typeface="Arial"/>
                <a:ea typeface="Times New Roman"/>
              </a:rPr>
              <a:t>, A CARGO DE LAS CUENTAS RECAUDADORAS</a:t>
            </a:r>
            <a:r>
              <a:rPr b="1" lang="es-AR" sz="1600" spc="-1" strike="noStrike">
                <a:solidFill>
                  <a:srgbClr val="0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1066680"/>
            <a:ext cx="91440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ORGANON ARGENTINA SA,  TRIB. FISCAL NAC.</a:t>
            </a:r>
            <a:r>
              <a:rPr b="1" lang="es-AR" sz="1800" spc="-1" strike="noStrike">
                <a:solidFill>
                  <a:srgbClr val="000000"/>
                </a:solidFill>
                <a:latin typeface="Arial"/>
                <a:ea typeface="Times New Roman"/>
              </a:rPr>
              <a:t>, </a:t>
            </a:r>
            <a:r>
              <a:rPr b="1" lang="es-ES" sz="1800" spc="-1" strike="noStrike">
                <a:solidFill>
                  <a:srgbClr val="000000"/>
                </a:solidFill>
                <a:latin typeface="Arial"/>
                <a:ea typeface="Times New Roman"/>
              </a:rPr>
              <a:t>SALA  B</a:t>
            </a:r>
            <a:r>
              <a:rPr b="1" lang="es-AR" sz="1800" spc="-1" strike="noStrike">
                <a:solidFill>
                  <a:srgbClr val="000000"/>
                </a:solidFill>
                <a:latin typeface="Arial"/>
                <a:ea typeface="Times New Roman"/>
              </a:rPr>
              <a:t>,</a:t>
            </a:r>
            <a:r>
              <a:rPr b="1" lang="es-ES" sz="1800" spc="-1" strike="noStrike">
                <a:solidFill>
                  <a:srgbClr val="000000"/>
                </a:solidFill>
                <a:latin typeface="Arial"/>
                <a:ea typeface="Times New Roman"/>
              </a:rPr>
              <a:t>  07/12/1973</a:t>
            </a:r>
            <a:r>
              <a:rPr b="1" lang="es-AR"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NO ES ÓBICE PARA EL PLANTEAMIENTO DE UN RECURSO DE REPETICIÓN, QUE SE INTENTE REPETIR UN IMPUESTO ABONADO POR RETENCIÓN SUFRIDA EN CARÁCTER DE PAGO ÚNICO Y DEFINITIVO</a:t>
            </a:r>
            <a:r>
              <a:rPr b="1" lang="es-E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VÁZQUEZ CONORT, MARÍA LUISA C/DGI - CNFED. </a:t>
            </a:r>
            <a:r>
              <a:rPr b="1" lang="en-US" sz="1800" spc="-1" strike="noStrike">
                <a:solidFill>
                  <a:srgbClr val="000000"/>
                </a:solidFill>
                <a:latin typeface="Arial"/>
                <a:ea typeface="Times New Roman"/>
              </a:rPr>
              <a:t>CONT. ADM. - SALA IV - 3/9/200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SE CONDICIONÓ EL DERECHO DE LA VENDEDORA -A REPETIR EL IMPUESTO PAGADO- A DEMOSTRAR LA PREVIA RESTITUCIÓN DE LO ABONADO A ELLAS POR LOS ADQUIRENTES EN CONCEPTO DE IVA.</a:t>
            </a:r>
            <a:r>
              <a:rPr b="1" lang="es-ES" sz="1800" spc="-1" strike="noStrike">
                <a:solidFill>
                  <a:srgbClr val="000000"/>
                </a:solidFill>
                <a:latin typeface="Arial"/>
                <a:ea typeface="Times New Roman"/>
              </a:rPr>
              <a:t> ES DECIR, </a:t>
            </a:r>
            <a:r>
              <a:rPr b="1" lang="es-ES" sz="1800" spc="-1" strike="noStrike" u="sng">
                <a:solidFill>
                  <a:srgbClr val="000000"/>
                </a:solidFill>
                <a:uFillTx/>
                <a:latin typeface="Arial"/>
                <a:ea typeface="Times New Roman"/>
              </a:rPr>
              <a:t>SE RECONOCIÓ EFECTIVAMENTE LA LEGITIMACIÓN DE LA VENDEDORA, PERO SUJETÁNDOLO A LA DEMOSTRACIÓN DE QUE FUE ELLA, AGENTE DE RETENCIÓN, QUIEN AL DEVOLVER PREVIAMENTE</a:t>
            </a:r>
            <a:r>
              <a:rPr b="1" lang="es-ES" sz="1800" spc="-1" strike="noStrike">
                <a:solidFill>
                  <a:srgbClr val="000000"/>
                </a:solidFill>
                <a:latin typeface="Arial"/>
                <a:ea typeface="Times New Roman"/>
              </a:rPr>
              <a:t> EL IMPORTE A SUS COMPRADORES SUFRIÓ LA CARGA DEL IMPUESTO. EN ESE CONTEXTO, SIENDO QUE LA EMPRESA QUE ACTUÓ COMO AGENTE DE RETENCIÓN NO DEVOLVIÓ A LOS COMPRADORES LAS SUMAS INGRESADAS, LA CONSECUENCIA NECESARIA SERÁ QUE LA COMPRADORA TIENE LA SUFICIENTE LEGITIMACIÓN PARA ACCIONAR EN PROCURA DE LA DEVOLUCIÓN DE LO ABONADO Y QUE ELLA ENTIENDE LO FUE SIN CAUS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838080"/>
            <a:ext cx="9144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RTE SUPREMA DE JUSTICIA DE LA NACIÓN, ECA CINES S.R.L. C. INSTITUTO NACIONAL DE CINEMATOGRAFIA S. ORDINARIO, 18/10/1984</a:t>
            </a:r>
            <a:r>
              <a:rPr b="1" lang="es-AR"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LOS AGENTES DE PERCEPCIÓN SÓLO SE ENCUENTRAN AUTORIZADOS A DEMANDAR LA REPETICIÓN DE IMPUESTOS REGIDOS POR LA LEY 11.683 EN LOS SUPUESTOS EN LOS QUE EL CUMPLIMIENTO DEL DEBER QUE LA LEGISLACIÓN LES IMPONE HA DERIVADO EN UN PERJUICIO PERSONAL.</a:t>
            </a: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u="sng">
                <a:solidFill>
                  <a:srgbClr val="000000"/>
                </a:solidFill>
                <a:uFillTx/>
                <a:latin typeface="Arial"/>
                <a:ea typeface="Times New Roman"/>
              </a:rPr>
              <a:t>LA REPETICIÓN DE UN IMPUESTO NO PUEDE SINO DEPENDER DE LA INDISPENSABLE PRUEBA DEL REAL PERJUICIO SUFRIDO PUES SI QUIEN DEMANDA OBTIENE SENTENCIA FAVORABLE, Y ANTES TRASLADÓ EL IMPUESTO AL PRECIO DE LA MERCADERÍA VENDIDA, HABRÍA COBRADO DOS VECES POR DISTINTAS VÍAS LO CUAL ES CONTRARIO A LA BUENA FE</a:t>
            </a:r>
            <a:r>
              <a:rPr b="1" lang="es-ES" sz="1800" spc="-1" strike="noStrike">
                <a:solidFill>
                  <a:srgbClr val="000000"/>
                </a:solidFill>
                <a:latin typeface="Arial"/>
                <a:ea typeface="Times New Roman"/>
              </a:rPr>
              <a:t> (DEL VOTO DEL DOCTOR ZAFFARON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066680"/>
            <a:ext cx="9144000" cy="53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ANTIC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LA MAYOR </a:t>
            </a:r>
            <a:r>
              <a:rPr b="1" lang="es-ES" sz="1800" spc="-1" strike="noStrike">
                <a:solidFill>
                  <a:srgbClr val="000000"/>
                </a:solidFill>
                <a:latin typeface="Arial"/>
                <a:ea typeface="Times New Roman"/>
              </a:rPr>
              <a:t>PARTE DE LA DOCTRINA  </a:t>
            </a:r>
            <a:r>
              <a:rPr b="1" lang="es-ES" sz="1800" spc="-1" strike="noStrike" u="sng">
                <a:solidFill>
                  <a:srgbClr val="000000"/>
                </a:solidFill>
                <a:uFillTx/>
                <a:latin typeface="Arial"/>
                <a:ea typeface="Times New Roman"/>
              </a:rPr>
              <a:t>NIEGA LA POSIBILIDAD DE RECLAMAR LOS INGRESOS A CUENTA, ANTICIPOS Y RETENCIONES EN LA MEDIDA EN QUE NO SE HUBIERE PRACTICADO EL BALANCE IMPOSITIVO</a:t>
            </a:r>
            <a:r>
              <a:rPr b="1" lang="es-ES" sz="1800" spc="-1" strike="noStrike">
                <a:solidFill>
                  <a:srgbClr val="000000"/>
                </a:solidFill>
                <a:latin typeface="Arial"/>
                <a:ea typeface="Times New Roman"/>
              </a:rPr>
              <a:t>, SEGÚN SE INTERPRETA DE LA PARTE FINAL DEL ARTÍCULO 83 DE LA LEY 11683, EN DONDE SE ESTABLECE QUE "SÓLO PROCEDERÁ LA REPETICIÓN POR LOS PERÍODOS FISCALES CON RELACIÓN A LOS CUALES SE HAYA SATISFECHO EL IMPUESTO HASTA ESE MOMENTO DETERMINADO POR LA ADMINISTRACIÓN FEDERAL DE INGRESOS PÚBLIC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OTRO ENFOQUE DOCTRINARIO, SE HA CONSIDERADO QUE LA RESTRICCIÓN IMPUESTA POR ESTA NORMA, SERÍA ÚNICAMENTE DE APLICACIÓN RESPECTO DE AQUELLOS IMPORTES QUE RESULTEN DEL PROCEDIMIENTO DE DETERMINACIÓN DE OFICIO, NO SIENDO EN CONSECUENCIA APLICABLE EN AQUELLOS CASOS DONDE EL ADMINISTRADO HUBIERE INGRESADO IMPORTES A CUENTA DE UN TRIBUTO, SIN QUE HUBIERA EXISTIDO PREVIAMENTE UN ACTO ADMINISTR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143000"/>
            <a:ext cx="9144000" cy="40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CORTE SUPREMA EN  LLOBET DELFINO, MARÍA T. C/PROVINCIA DE CÓRDOBA"  28/11/1969,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SI BIEN REFERIDO A UN TRIBUTO MUNICIPAL, SOSTUVO QUE ES PROCEDENTE LA ACCIÓN DE REPETICIÓN DE UN ANTICIPO EN LA MEDIDA EN QUE EL IMPUESTO CARECIERA DE BASE LEG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VALLANA, ROBERTO E. CORTE SUP. JUST. NAC. 07/10/1975</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PARA QUE PROCEDA LA ACCIÓN DE REPETICIÓN EN EL CASO DE UN IMPUESTO DE EJERCICIO -COMO ES EL DE BENEFICIOS EVENTUALES-, </a:t>
            </a:r>
            <a:r>
              <a:rPr b="1" lang="es-ES" sz="1800" spc="-1" strike="noStrike" u="sng">
                <a:solidFill>
                  <a:srgbClr val="000000"/>
                </a:solidFill>
                <a:uFillTx/>
                <a:latin typeface="Arial"/>
                <a:ea typeface="Times New Roman"/>
              </a:rPr>
              <a:t>DICHO EJERCICIO FISCAL DEBE ENCONTRARSE CERRADO Y EL CONTRIBUYENTE</a:t>
            </a:r>
            <a:r>
              <a:rPr b="1" lang="es-ES" sz="1800" spc="-1" strike="noStrike">
                <a:solidFill>
                  <a:srgbClr val="000000"/>
                </a:solidFill>
                <a:latin typeface="Arial"/>
                <a:ea typeface="Times New Roman"/>
              </a:rPr>
              <a:t> HABER DETERMINADO EL HECHO IMPONIBLE PARA CONOCIMIENTO DEL ORGANISMO</a:t>
            </a: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143000"/>
            <a:ext cx="9144000" cy="49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ILINDREX SAIC TRIB. </a:t>
            </a:r>
            <a:r>
              <a:rPr b="1" lang="es-ES" sz="1800" spc="-1" strike="noStrike">
                <a:solidFill>
                  <a:srgbClr val="000000"/>
                </a:solidFill>
                <a:latin typeface="Arial"/>
                <a:ea typeface="Times New Roman"/>
              </a:rPr>
              <a:t>FISCAL NAC. SALA  A 24/03/197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ACCIÓN DE REPETICIÓN ESTABLECIDA EN EL ARTÍCULO 74 DE LA LEY 11683, SÓLO PUEDE SER EJERCIDA RESPECTO DE PERÍODOS FISCALES POR LOS CUALES SE HAYA INGRESADO EL IMPUESTO CORRESPONDIENTE A LA TOTALIDAD DEL PERÍOD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 CONOCIENDO EL IMPUESTO, NO PUEDE AFIRMARSE SI HAY IMPUESTO A REPETIR.</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KORMAN SA  CÁM. NAC. </a:t>
            </a:r>
            <a:r>
              <a:rPr b="1" lang="en-US" sz="1800" spc="-1" strike="noStrike">
                <a:solidFill>
                  <a:srgbClr val="000000"/>
                </a:solidFill>
                <a:latin typeface="Arial"/>
                <a:ea typeface="Times New Roman"/>
              </a:rPr>
              <a:t>CONT. ADM. FED. </a:t>
            </a:r>
            <a:r>
              <a:rPr b="1" lang="es-ES" sz="1800" spc="-1" strike="noStrike">
                <a:solidFill>
                  <a:srgbClr val="000000"/>
                </a:solidFill>
                <a:latin typeface="Arial"/>
                <a:ea typeface="Times New Roman"/>
              </a:rPr>
              <a:t>SALA I,  24/05/1979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LOS INGRESOS POR ANTICIPOS SON PAGOS A CUENTA DEL IMPUESTO QUE EN DEFINITIVA RESULTE EN EL EJERCICIO FISCAL Y, EN CONSECUENCIA, SÓLO PUEDEN REPETIRSE CUANDO HUBIEREN SIDO IMPUTADOS AL IMPUESTO DEFINITIVO</a:t>
            </a:r>
            <a:r>
              <a:rPr b="1" lang="es-ES" sz="1800" spc="-1" strike="noStrike">
                <a:solidFill>
                  <a:srgbClr val="000000"/>
                </a:solidFill>
                <a:latin typeface="Arial"/>
                <a:ea typeface="Times New Roman"/>
              </a:rPr>
              <a:t>, CONFUNDIÉNDOSE CON ÉSTE Y PERDIENDO SU INDIVIDUALIDAD.</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1143000"/>
            <a:ext cx="9144000" cy="391824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FACILIDADES DE PAG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LOS PLANES DE FACILIDADES DE PAGO, GENERALMENTE, CONTIENEN CLÁUSULAS QUE REQUIEREN QUE EL CONTRIBUYENTE DESISTA Y RENUNCIE A TODA ACCIÓN Y DERECHO, INCLUSO EL DE REPETI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LA </a:t>
            </a:r>
            <a:r>
              <a:rPr b="1" lang="es-ES" sz="1800" spc="-1" strike="noStrike" u="sng">
                <a:solidFill>
                  <a:srgbClr val="000000"/>
                </a:solidFill>
                <a:uFillTx/>
                <a:latin typeface="Arial"/>
                <a:ea typeface="Times New Roman"/>
              </a:rPr>
              <a:t>CORTE SUP. </a:t>
            </a:r>
            <a:r>
              <a:rPr b="1" lang="es-AR" sz="1800" spc="-1" strike="noStrike" u="sng">
                <a:solidFill>
                  <a:srgbClr val="000000"/>
                </a:solidFill>
                <a:uFillTx/>
                <a:latin typeface="Arial"/>
                <a:ea typeface="Times New Roman"/>
              </a:rPr>
              <a:t>JUST. NAC., EN </a:t>
            </a:r>
            <a:r>
              <a:rPr b="1" lang="es-ES" sz="1800" spc="-1" strike="noStrike" u="sng">
                <a:solidFill>
                  <a:srgbClr val="000000"/>
                </a:solidFill>
                <a:uFillTx/>
                <a:latin typeface="Arial"/>
                <a:ea typeface="Times New Roman"/>
              </a:rPr>
              <a:t>MEDEFIN SA COMPAÑÍA FINANCIERA  01/10/1991</a:t>
            </a:r>
            <a:r>
              <a:rPr b="1" lang="es-AR"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DECLARÓ LA VALIDEZ DE LOS REGÍMENES DE REGULARIZACIÓN DE DEUDAS CUYO ACOGIMIENTO IMPLICA LA RENUNCIA A TODA ACCIÓN Y DERECHO, INCLUSO EL DE REPETICIÓN</a:t>
            </a: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30492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ÁMARA</a:t>
            </a:r>
            <a:r>
              <a:rPr b="1" lang="es-AR" sz="1800" spc="-1" strike="noStrike">
                <a:solidFill>
                  <a:srgbClr val="000000"/>
                </a:solidFill>
                <a:latin typeface="Arial"/>
                <a:ea typeface="Times New Roman"/>
              </a:rPr>
              <a:t> </a:t>
            </a:r>
            <a:r>
              <a:rPr b="1" lang="es-ES" sz="1800" spc="-1" strike="noStrike">
                <a:solidFill>
                  <a:srgbClr val="000000"/>
                </a:solidFill>
                <a:latin typeface="Arial"/>
                <a:ea typeface="Times New Roman"/>
              </a:rPr>
              <a:t>NACIONAL DE APELACIONES EN LO CONTENCIOSOADMINISTRATIVO FEDERAL, SALA V</a:t>
            </a:r>
            <a:r>
              <a:rPr b="1" lang="es-AR" sz="1800" spc="-1" strike="noStrike">
                <a:solidFill>
                  <a:srgbClr val="000000"/>
                </a:solidFill>
                <a:latin typeface="Arial"/>
                <a:ea typeface="Times New Roman"/>
              </a:rPr>
              <a:t>, </a:t>
            </a:r>
            <a:r>
              <a:rPr b="1" lang="es-ES" sz="1800" spc="-1" strike="noStrike">
                <a:solidFill>
                  <a:srgbClr val="000000"/>
                </a:solidFill>
                <a:latin typeface="Arial"/>
                <a:ea typeface="Times New Roman"/>
              </a:rPr>
              <a:t>13/09/2000</a:t>
            </a:r>
            <a:r>
              <a:rPr b="1" lang="es-AR" sz="1800" spc="-1" strike="noStrike">
                <a:solidFill>
                  <a:srgbClr val="000000"/>
                </a:solidFill>
                <a:latin typeface="Arial"/>
                <a:ea typeface="Times New Roman"/>
              </a:rPr>
              <a:t>, </a:t>
            </a:r>
            <a:r>
              <a:rPr b="1" lang="es-ES" sz="1800" spc="-1" strike="noStrike">
                <a:solidFill>
                  <a:srgbClr val="000000"/>
                </a:solidFill>
                <a:latin typeface="Arial"/>
                <a:ea typeface="Times New Roman"/>
              </a:rPr>
              <a:t>TURCONI FRANCISCO ANGEL C. FISCO NACIONAL (D.G.I.) S. REPETICIÓ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 IMPROCEDENTE LA ACCIÓN DE REPETICIÓN CUANDO SE ACEPTA LA EXISTENCIA DE LA DEUDA A TRAVÉS DE LA ADHESIÓN A UN PLAN DE FACILIDADES DE PAGO  PARA EL INGRESO DE DEUDAS EN CURSO DE EJECUCIÓN FISCAL-, PUES LO CONTRARIO IMPLICA CONTRADICCIÓN CON LOS PROPIOS ACTOS, EJERCIENDO UNA CONDUCTA CONTRARIA A UNA ANTERIOR JURÍDICAMENTE RELEVANTE Y EFICAZ.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OTRAS PALABRAS, DE ACEPTARSE LA POSICIÓN DEL RECURRENTE SE VULNERARÍA EL PRINCIPIO SEGÚN EL CUAL NADIE PUEDE PONERSE EN CONTRADICCIÓN CON SUS PROPIOS ACTOS, EJERCIENDO UNA CONDUCTA CONTRARIA A UNA ANTERIOR JURÍDICAMENTE RELEVANTE Y PLENAMENTE EFICAZ (CONF. C.S.J.N. FALLOS 294:220; 299:373; 300:147 Y 480; C. FED. EN LO CONT. ADM. SALA II, IN RE: "RONDANO" DEL 11/5/93, "JORGE ANTONIO" DEL 10/9/96; SALA IV, IN RE: "AGENCIA MARÍTIMA RIGEL S.A.", SENTENCIA DEL 7/4/87, "INDUSTRIAS MANCINI" DEL 23/11/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762120"/>
            <a:ext cx="9144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OHM, JOSÉ ENRIQUE TRIB. FISCAL NAC SALA: 14/12/2007</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 </a:t>
            </a:r>
            <a:r>
              <a:rPr b="1" lang="es-AR" sz="1800" spc="-1" strike="noStrike">
                <a:solidFill>
                  <a:srgbClr val="000000"/>
                </a:solidFill>
                <a:latin typeface="Arial"/>
                <a:ea typeface="Times New Roman"/>
              </a:rPr>
              <a:t>QUE EL ACOGIMIENTO A LAS NORMAS DE REGULARIZACIÓN DE DEUDAS TRIBUTARIAS QUE CONTIENEN CIERTOS BENEFICIOS, HA EXIGIDO A TRAVÉS DE LA EVOLUCIÓN NORMATIVA DE ESOS INSTRUMENTOS DE REGULARIZACIÓN, EL DESISTIMIENTO DE LA ACCIÓN Y DEL DERECHO. ASÍ LO SEÑALAMOS, POR EJEMPLO, EN LA CAUSA “HORACIO E. MOUCHARD SCS” - 28/5/1989 DONDE DECÍAMOS QUE EL DESISTIMIENTO DEL DERECHO, POR OPOSICIÓN AL DEL PROCESO, AFECTA EL DERECHO MATERIAL O SUSTANCIAL QUE FUNDA LA PRETENSIÓN Y OBSTA A SU REITERACIÓN EN OTRO PROCES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NO ES POSIBLE REPETIR UN GRAVAMEN INGRESADO DENTRO DE ESTOS REGÍMENES FAVORABLES, SALVO QUE EL ERROR O EL EXCESO SE REFIRIESE A LOS IMPORTES PAGADOS DENTRO DEL MISMO SISTE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762120"/>
            <a:ext cx="9144000" cy="497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2. LA RESPONSABILIDAD SOLIDARIA DE LOS ADMINISTRADORES DE SOCIEDAD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DE ACUERDO A LO ESTABLECIDO POR EL ARTÍCULO 5°, INCISO B) DE LA LEY DE PROCEDIMIENTO TRIBUTARIO N° 11683 L</a:t>
            </a:r>
            <a:r>
              <a:rPr b="1" lang="es-AR" sz="1600" spc="-1" strike="noStrike">
                <a:solidFill>
                  <a:srgbClr val="000000"/>
                </a:solidFill>
                <a:latin typeface="Arial"/>
                <a:ea typeface="Times New Roman"/>
              </a:rPr>
              <a:t>AS SOCIEDADES</a:t>
            </a:r>
            <a:r>
              <a:rPr b="1" lang="es-AR" sz="900" spc="-1" strike="noStrike">
                <a:solidFill>
                  <a:srgbClr val="000000"/>
                </a:solidFill>
                <a:latin typeface="Verdana"/>
                <a:ea typeface="Times New Roman"/>
              </a:rPr>
              <a:t> </a:t>
            </a:r>
            <a:r>
              <a:rPr b="1" lang="es-ES" sz="1600" spc="-1" strike="noStrike">
                <a:solidFill>
                  <a:srgbClr val="000000"/>
                </a:solidFill>
                <a:latin typeface="Arial"/>
                <a:ea typeface="Times New Roman"/>
              </a:rPr>
              <a:t>SON RESPONSABLES PRINCIPALES, ES DECIR </a:t>
            </a:r>
            <a:r>
              <a:rPr b="1" lang="es-ES" sz="1600" spc="-1" strike="noStrike" u="sng">
                <a:solidFill>
                  <a:srgbClr val="000000"/>
                </a:solidFill>
                <a:uFillTx/>
                <a:latin typeface="Arial"/>
                <a:ea typeface="Times New Roman"/>
              </a:rPr>
              <a:t>CONTRIBUYENTES</a:t>
            </a:r>
            <a:r>
              <a:rPr b="1" lang="es-ES" sz="1600" spc="-1" strike="noStrike">
                <a:solidFill>
                  <a:srgbClr val="000000"/>
                </a:solidFill>
                <a:latin typeface="Arial"/>
                <a:ea typeface="Times New Roman"/>
              </a:rPr>
              <a:t>, POR EL PAGO DE </a:t>
            </a:r>
            <a:r>
              <a:rPr b="1" lang="es-AR" sz="1600" spc="-1" strike="noStrike">
                <a:solidFill>
                  <a:srgbClr val="000000"/>
                </a:solidFill>
                <a:latin typeface="Arial"/>
                <a:ea typeface="Times New Roman"/>
              </a:rPr>
              <a:t> LOS IMPUESTOS, INTERESES, MULTAS Y POR LAS OBLIGACIONES DE LA SEGURIDAD SOCIA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LA SOCIEDAD NECESITA ÓRGANOS QUE LE PERMITAN EXPRESAR SU VOLUNTAD Y DIRIGIR SUS ACCIONES, TANTO EN EL ORDEN INTERNO COMO HACIA TERCER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LAS SOCIEDADES DEBEN CUMPLIR CON SUS DEBERES IMPOSITIVOS POR INTERMEDIO DE SUS REPRESENTANTES LEGALES COMÚNMENTE DENOMINADOS ADMINISTRADO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ea typeface="Times New Roman"/>
              </a:rPr>
              <a:t>EN DOCTRINA SE LOS DENOMINA RESPONSABLES POR LA DEUDA AJENA</a:t>
            </a:r>
            <a:r>
              <a:rPr b="1" lang="es-AR" sz="1600" spc="-1" strike="noStrike">
                <a:solidFill>
                  <a:srgbClr val="000000"/>
                </a:solidFill>
                <a:latin typeface="Arial"/>
                <a:ea typeface="Times New Roman"/>
              </a:rPr>
              <a:t>, </a:t>
            </a:r>
            <a:r>
              <a:rPr b="1" lang="es-AR" sz="1600" spc="-1" strike="noStrike" u="sng">
                <a:solidFill>
                  <a:srgbClr val="000000"/>
                </a:solidFill>
                <a:uFillTx/>
                <a:latin typeface="Arial"/>
                <a:ea typeface="Times New Roman"/>
              </a:rPr>
              <a:t>YA QUE EN EL CASO DE INCUMPLIMIENTO DE LA OBLIGACIÓN DE PAGO POR PARTE DEL CONTRIBUYENTE, RESPONDERÁN SOLIDARIAMENTE POR DICHO P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914400"/>
            <a:ext cx="9144000" cy="38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RESPONSABLE SOLIDARIO ES EL RESPONSABLE POR LA DEUDA AJENA, ES DECIR, LA PERSONA QUE LA LEY COLOCA COMO OBLIGADO A </a:t>
            </a:r>
            <a:r>
              <a:rPr b="1" lang="es-ES" sz="2000" spc="-1" strike="noStrike" u="sng">
                <a:solidFill>
                  <a:srgbClr val="000000"/>
                </a:solidFill>
                <a:uFillTx/>
                <a:latin typeface="Arial"/>
                <a:ea typeface="Times New Roman"/>
              </a:rPr>
              <a:t>RESPONDER CON SU PATRIMONIO</a:t>
            </a:r>
            <a:r>
              <a:rPr b="1" lang="es-ES" sz="2000" spc="-1" strike="noStrike">
                <a:solidFill>
                  <a:srgbClr val="000000"/>
                </a:solidFill>
                <a:latin typeface="Arial"/>
                <a:ea typeface="Times New Roman"/>
              </a:rPr>
              <a:t> POR LA OBLIGACIÓN TRIBUTARIA INCUMPLIDA POR EL CONTRIBUYENT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Times New Roman"/>
              </a:rPr>
              <a:t>EL DERECHO TRIBUTARIO SIEMPRE PROCURA ESTABLECER OTROS SUJETOS OBLIGADOS AL PAGO DE LOS IMPUESTOS PARA EL CASO EN QUE EL CONTRIBUYENTE, OBLIGADO PRINCIPAL,  INCUMPLA. ESTO PERMITE AL ESTADO TENER UNA GARANTÍA ADICIONAL DE COB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295280"/>
            <a:ext cx="91440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EJEMPLOS DE REPETI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EN EXCESO O NO ADEUDADO POR HABER MEDIADO ERROR EN LA AUTODETERMINACIÓN EFECTUADA POR EL CONTRIBUYEN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NO ADEUDADO POR ENCONTRARSE EL MISMO INGRESADO CON ANTERIORIDAD</a:t>
            </a:r>
            <a:r>
              <a:rPr b="1" lang="es-AR" sz="1600" spc="-1" strike="noStrike">
                <a:solidFill>
                  <a:srgbClr val="000000"/>
                </a:solidFill>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NO ADEUDADO POR MEDIAR UNA EXENCIÓN IMPOSITI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NO ADEUDADO POR NO HABERSE CONFIGURADO EL HECHO IMPONIBLE</a:t>
            </a:r>
            <a:r>
              <a:rPr b="1" lang="es-AR" sz="1600" spc="-1" strike="noStrike">
                <a:solidFill>
                  <a:srgbClr val="000000"/>
                </a:solidFill>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NO ADEUDADO POR NO SER EL PAGADOR SUJETO PASIVO DE LA OBLIGACIÓN TRIBUTARIA</a:t>
            </a:r>
            <a:r>
              <a:rPr b="1" lang="es-AR" sz="1600" spc="-1" strike="noStrike">
                <a:solidFill>
                  <a:srgbClr val="000000"/>
                </a:solidFill>
                <a:latin typeface="Arial"/>
                <a:ea typeface="Times New Roman"/>
              </a:rPr>
              <a:t>.</a:t>
            </a: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990720"/>
            <a:ext cx="91440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RESPONSABILIDAD SOLIDARIA DEBE SER ESTABLECIDA POR UNA NORMA LEGAL. ES POR ELLO QUE LA LEY DE PROCEDIMIENTO TRIBUTARIO Nº 11.683 TAXATIVAMENTE DETERMINA QUIENES SON LOS SUJETOS SOBRE LOS QUE RECAERÁ DICHA RESPONSABILIDAD.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ARTÍCULO 8 ENUNCIA 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r>
              <a:rPr b="1" lang="es-ES" sz="2000" spc="-1" strike="noStrike">
                <a:solidFill>
                  <a:srgbClr val="000000"/>
                </a:solidFill>
                <a:latin typeface="Arial"/>
                <a:ea typeface="Times New Roman"/>
              </a:rPr>
              <a:t>RESPONDEN CON SUS BIENES PROPIOS Y SOLIDARIAMENTE CON LOS DEUDORES DEL TRIBUTO Y, SI LOS HUBIERE, CON OTROS RESPONSABLES DEL MISMO GRAVAMEN, SIN PERJUICIO DE LAS SANCIONES CORRESPONDIENTES A LAS INFRACCIONES COMETIDAS ...” TODOS LOS RESPONSABLES ENUMERADOS EN LOS PRIMEROS CINCO INCISOS DEL ARTÍCULO 6º. .. </a:t>
            </a:r>
            <a:r>
              <a:rPr b="1" lang="es-ES" sz="2000" spc="-1" strike="noStrike" u="sng">
                <a:solidFill>
                  <a:srgbClr val="000000"/>
                </a:solidFill>
                <a:uFillTx/>
                <a:latin typeface="Arial"/>
                <a:ea typeface="Times New Roman"/>
              </a:rPr>
              <a:t>LOS DIRECTORES, GERENTES Y DEMÁS REPRESENTANTES DE LAS PERSONAS JURÍDICAS, SOCIEDADES, ASOCIACIONES, ENTIDADES, EMPRESAS Y PATRIMONI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09480"/>
            <a:ext cx="9144000" cy="532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SUPUESTOS EN QUE PROCEDE SU DETERMINACIÓN SEGÚN EL CRITERIO FISC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EL MENCIONADO ARTÍCULO 8 EXPRESA EN SU INCISO A), QUE LA RESPONSABILIDAD SE HARÁ EFECTIVA CUANDO DICHOS RESPONSABL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r>
              <a:rPr b="1" lang="es-AR" sz="1600" spc="-1" strike="noStrike">
                <a:solidFill>
                  <a:srgbClr val="000000"/>
                </a:solidFill>
                <a:latin typeface="Arial"/>
                <a:ea typeface="Times New Roman"/>
              </a:rPr>
              <a:t>... </a:t>
            </a:r>
            <a:r>
              <a:rPr b="1" lang="es-AR" sz="1600" spc="-1" strike="noStrike" u="sng">
                <a:solidFill>
                  <a:srgbClr val="000000"/>
                </a:solidFill>
                <a:uFillTx/>
                <a:latin typeface="Arial"/>
                <a:ea typeface="Times New Roman"/>
              </a:rPr>
              <a:t>POR INCUMPLIMIENTO DE SUS DEBERES TRIBUTARIOS, NO ABONARAN OPORTUNAMENTE EL DEBIDO TRIBUTO, SI LOS DEUDORES NO CUMPLEN LA INTIMACIÓN ADMINISTRATIVA DE PAGO PARA REGULARIZAR SU SITUACIÓN FISCAL DENTRO DEL PLAZO FIJADO POR EL SEGUNDO PÁRRAFO DEL ARTÍCULO 17 (QUINCE DÍA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N PRINCIPIO LA RESPONSABILIDAD SOLIDARIA </a:t>
            </a:r>
            <a:r>
              <a:rPr b="1" lang="es-ES" sz="1600" spc="-1" strike="noStrike" u="sng">
                <a:solidFill>
                  <a:srgbClr val="000000"/>
                </a:solidFill>
                <a:uFillTx/>
                <a:latin typeface="Arial"/>
                <a:ea typeface="Times New Roman"/>
              </a:rPr>
              <a:t>SE ESTABLECIÓ PARA EL PAGO DE IMPUESTOS Y NO DE LAS MULT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N LAS INFRACCIONES A QUE DA LUGAR EL RÉGIMEN LEGAL DE LA SOLIDARIDAD RIGE EL PRINCIPIO DE PERSONALIZACIÓN DE LOS ILÍCITOS FISCALES. EN CONSECUENCIA, NO ES POSIBLE ESTABLECER LA PROCEDENCIA DE UNA SANCIÓN POR EL SÓLO HECHO DE HABER ARRIBADO A LA EXTENSIÓN DE LA SOLIDARIDAD, SINO QUE DEBE EFECTUARSE UNA EVALUACIÓN INDEPENDIENTE DEL ASPECTO INFRACCION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DGI HACE MUCHOS AÑOS RECONOCIÓ ESTE PRINCIPIO EN EL DICTAMEN 86/69 (DATY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09480"/>
            <a:ext cx="914400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ea typeface="Times New Roman"/>
              </a:rPr>
              <a:t>REQUISITOS LEGALES PARA SU PROCEDENCIA</a:t>
            </a:r>
            <a:r>
              <a:rPr b="1" lang="es-AR" sz="2400" spc="-1" strike="noStrike" u="sng">
                <a:solidFill>
                  <a:srgbClr val="000000"/>
                </a:solidFill>
                <a:uFillTx/>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XISTENCIA DE DEUDA TRIBUTARIA DE LA SOCIE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INTIMACIÓN ADMINISTRATIVA DE PAGO A LA SOCIE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FALTA DE REGULARIZACIÓN EN EL PLAZO DE 15 DÍ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IMPUTACIÓN DEL ELEMENTO SUBJETIVO EN EL RESPONSAB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DETERMINACIÓN DE OFICIO AL SOLIDARIO</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83808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LA RESPONSABILIDAD SOLIDARIA ES SUBSIDIAR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JUSTICIA NACIONAL HA ESTABLECIDO QUE LA RESPONSABILIDAD SOLIDARIA </a:t>
            </a:r>
            <a:r>
              <a:rPr b="1" lang="es-ES" sz="1800" spc="-1" strike="noStrike" u="sng">
                <a:solidFill>
                  <a:srgbClr val="000000"/>
                </a:solidFill>
                <a:uFillTx/>
                <a:latin typeface="Arial"/>
                <a:ea typeface="Times New Roman"/>
              </a:rPr>
              <a:t>ES SUBSIDIARIA</a:t>
            </a:r>
            <a:r>
              <a:rPr b="1" lang="es-ES" sz="1800" spc="-1" strike="noStrike">
                <a:solidFill>
                  <a:srgbClr val="000000"/>
                </a:solidFill>
                <a:latin typeface="Arial"/>
                <a:ea typeface="Times New Roman"/>
              </a:rPr>
              <a:t>. ES DECIR, </a:t>
            </a:r>
            <a:r>
              <a:rPr b="1" lang="es-ES" sz="1800" spc="-1" strike="noStrike" u="sng">
                <a:solidFill>
                  <a:srgbClr val="000000"/>
                </a:solidFill>
                <a:uFillTx/>
                <a:latin typeface="Arial"/>
                <a:ea typeface="Times New Roman"/>
              </a:rPr>
              <a:t>PRIMERO SE DEBE RECLAMAR LA DEUDA AL CONTRIBUYENTE Y FRACASADO EL COBRO, SE DEBE DIRIGIR EL RECLAMO CONTRA EL RESPONSABLE SOLIDARIO</a:t>
            </a:r>
            <a:r>
              <a:rPr b="1" lang="es-ES" sz="1800" spc="-1" strike="noStrike">
                <a:solidFill>
                  <a:srgbClr val="000000"/>
                </a:solidFill>
                <a:latin typeface="Arial"/>
                <a:ea typeface="Times New Roman"/>
              </a:rPr>
              <a:t>.  CNCA, SALA  IV, FARMIA SA., 4/5/2004</a:t>
            </a:r>
            <a:r>
              <a:rPr b="1" lang="es-AR" sz="1800" spc="-1" strike="noStrike">
                <a:solidFill>
                  <a:srgbClr val="000000"/>
                </a:solidFill>
                <a:latin typeface="Arial"/>
                <a:ea typeface="Times New Roman"/>
              </a:rPr>
              <a:t>,</a:t>
            </a:r>
            <a:r>
              <a:rPr b="1" lang="es-ES" sz="1800" spc="-1" strike="noStrike">
                <a:solidFill>
                  <a:srgbClr val="000000"/>
                </a:solidFill>
                <a:latin typeface="Arial"/>
                <a:ea typeface="Times New Roman"/>
              </a:rPr>
              <a:t> CNACAF, SALA IV, MARRERO, CARLOS A. C. DGI, 09/11/2004.</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EL TRIBUNAL FISCAL, POR SU PARTE, SE HA PRONUNCIADO EN EL SENTIDO QUE EN MATERIA DE SOLIDARIDAD, LA HIPÓTESIS NO ES LA EXISTENCIA DE UNA OBLIGACIÓN ÚNICA A CARGO DE DIVERSOS DEUDORES CUYO CUMPLIMIENTO PUEDA EL ACREEDOR EXIGIR INDISTINTAMENTE A CUALQUIERA DE ELLOS, SINO LA DE </a:t>
            </a:r>
            <a:r>
              <a:rPr b="1" lang="es-AR" sz="1800" spc="-1" strike="noStrike" u="sng">
                <a:solidFill>
                  <a:srgbClr val="000000"/>
                </a:solidFill>
                <a:uFillTx/>
                <a:latin typeface="Arial"/>
                <a:ea typeface="Times New Roman"/>
              </a:rPr>
              <a:t>UNA OBLIGACIÓN PRINCIPAL Y OTRA ACCESORIA</a:t>
            </a:r>
            <a:r>
              <a:rPr b="1" lang="es-AR" sz="1800" spc="-1" strike="noStrike">
                <a:solidFill>
                  <a:srgbClr val="000000"/>
                </a:solidFill>
                <a:latin typeface="Arial"/>
                <a:ea typeface="Times New Roman"/>
              </a:rPr>
              <a:t>, DE MODO TAL QUE EL FISCO ÚNICAMENTE PUEDE HACER VALER SUS DERECHOS SIGUIENDO </a:t>
            </a:r>
            <a:r>
              <a:rPr b="1" lang="es-AR" sz="1800" spc="-1" strike="noStrike" u="sng">
                <a:solidFill>
                  <a:srgbClr val="000000"/>
                </a:solidFill>
                <a:uFillTx/>
                <a:latin typeface="Arial"/>
                <a:ea typeface="Times New Roman"/>
              </a:rPr>
              <a:t>UN ORDEN PREESTABLECIDO</a:t>
            </a:r>
            <a:r>
              <a:rPr b="1" lang="es-AR" sz="1800" spc="-1" strike="noStrike">
                <a:solidFill>
                  <a:srgbClr val="000000"/>
                </a:solidFill>
                <a:latin typeface="Arial"/>
                <a:ea typeface="Times New Roman"/>
              </a:rPr>
              <a:t>, DESDE QUE LA OBLIGACIÓN DE LOS RESPONSABLES SOLIDARIOS ES SUBSIDIAR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99072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NECESIDAD DE EJERCER LA ADMINISTRACIÓN Y DISPOSICIÓN DE LOS FONDOS Y BIENES SOCI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 BASTA EL SIMPLE HECHO DE QUE UNA PERSONA TENGA EN LA ENTIDAD ALGUNO DE LOS CARGOS ENUMERADOS EN LA LEY PARA QUE SE LA CONSIDERE RESPONSABLE. EN ESTE SENTIDO, SÓLO PODRÍAN INCURRIR EN INCUMPLIMIENTO DE SUS DEBERES TRIBUTARIOS </a:t>
            </a:r>
            <a:r>
              <a:rPr b="1" lang="en-US" sz="1800" spc="-1" strike="noStrike" u="sng">
                <a:solidFill>
                  <a:srgbClr val="000000"/>
                </a:solidFill>
                <a:uFillTx/>
                <a:latin typeface="Arial"/>
                <a:ea typeface="Times New Roman"/>
              </a:rPr>
              <a:t>QUIENES ADMINISTREN Y DISPONGAN DE LOS BIENES SOCIALES,</a:t>
            </a:r>
            <a:r>
              <a:rPr b="1" lang="en-US" sz="1800" spc="-1" strike="noStrike">
                <a:solidFill>
                  <a:srgbClr val="000000"/>
                </a:solidFill>
                <a:latin typeface="Arial"/>
                <a:ea typeface="Times New Roman"/>
              </a:rPr>
              <a:t> NO SIENDO SUFICIENTE OCUPAR EL CARGO DE DIRECTOR O GERENTE DE LA PERSONA JURÍDICA PARA CONSIDERARLO RESPONSABLE SOLIDARIO. ASÍ LO HA ESTABLECIDO </a:t>
            </a:r>
            <a:r>
              <a:rPr b="1" lang="en-US" sz="1800" spc="-1" strike="noStrike" u="sng">
                <a:solidFill>
                  <a:srgbClr val="000000"/>
                </a:solidFill>
                <a:uFillTx/>
                <a:latin typeface="Arial"/>
                <a:ea typeface="Times New Roman"/>
              </a:rPr>
              <a:t>LA SUPREMA CORTE DE JUSTICIA DE LA NACIÓN EN EL FALLO MONASTERIO DA SILVA EN EL AÑO 1970</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1066680"/>
            <a:ext cx="9144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NECESIDAD DE REALIZAR LA DETERMINACIÓN DE OFICIO AL SOLIDARI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TODOS LOS CASOS EN QUE SE PRETENDA HACER EFECTIVA LA RESPONSABILIDAD SOLIDARIA SOBRE LOS RESPONSABLES SOLIDARIOS </a:t>
            </a:r>
            <a:r>
              <a:rPr b="1" lang="es-ES" sz="1800" spc="-1" strike="noStrike" u="sng">
                <a:solidFill>
                  <a:srgbClr val="000000"/>
                </a:solidFill>
                <a:uFillTx/>
                <a:latin typeface="Arial"/>
                <a:ea typeface="Times New Roman"/>
              </a:rPr>
              <a:t>DEBERÁ SUSTANCIARSE EL PROCEDIMIENTO DE DETERMINACIÓN DE OFICIO, AUNQUE EL CRÉDITO RECLAMADO NO REQUIERA EL CUMPLIMIENTO DE TALES RECAUDOS PARA TORNARSE EXIGIBLE SOBRE EL CONTRIBUY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990720"/>
            <a:ext cx="9144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a:t>
            </a:r>
            <a:r>
              <a:rPr b="1" lang="es-ES" sz="1800" spc="-1" strike="noStrike" u="sng">
                <a:solidFill>
                  <a:srgbClr val="000000"/>
                </a:solidFill>
                <a:uFillTx/>
                <a:latin typeface="Arial"/>
                <a:ea typeface="Times New Roman"/>
              </a:rPr>
              <a:t>EL FISCO DEBE DEMOSTRAR LA PARTICIPACIÓN DEL ADMINISTRADOR EN EL INCUMPLIMI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SI, </a:t>
            </a:r>
            <a:r>
              <a:rPr b="1" lang="es-ES" sz="1800" spc="-1" strike="noStrike" u="sng">
                <a:solidFill>
                  <a:srgbClr val="000000"/>
                </a:solidFill>
                <a:uFillTx/>
                <a:latin typeface="Arial"/>
                <a:ea typeface="Times New Roman"/>
              </a:rPr>
              <a:t>LA  RESPONSABILIDAD SOLIDARIA SE APLICA A TÍTULO REPRESIV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 ASÍ PORQUE LA EXTENSIÓN DE LA RESPONSABILIDAD PATRIMONIAL SURGIDA COMO RESULTANTE DEL CITADO PROCEDIMIENTO DE DETERMINACIÓN DE OFICIO, REVISTE NATURALEZA SANCIONATORIA, CUESTIÓN QUE INVOLUCRA LA </a:t>
            </a:r>
            <a:r>
              <a:rPr b="1" lang="es-ES" sz="1800" spc="-1" strike="noStrike" u="sng">
                <a:solidFill>
                  <a:srgbClr val="000000"/>
                </a:solidFill>
                <a:uFillTx/>
                <a:latin typeface="Arial"/>
                <a:ea typeface="Times New Roman"/>
              </a:rPr>
              <a:t>NECESARIA PROBANZA DEL ELEMENTO SUBJETIVO, DADO POR SU OBRAR CULPOSO O DOLOSO</a:t>
            </a:r>
            <a:r>
              <a:rPr b="1" lang="es-ES" sz="1800" spc="-1" strike="noStrike">
                <a:solidFill>
                  <a:srgbClr val="000000"/>
                </a:solidFill>
                <a:latin typeface="Arial"/>
                <a:ea typeface="Times New Roman"/>
              </a:rPr>
              <a:t>, HECHO QUE DEBE SER MERITUADO POR EL JUEZ ADMINISTRATIVO, SI BIEN CON INVERSIÓN DE LA CARGA DE LA PRUEBA, EN LA INSTANCIA DEL PROCEDIMIENTO PRECITA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EX DGI HA RECONOCIDO TAL CRITERIO EN EL DICTAMEN N° 3/82 (DATYJ). LO MISMO HA EXPRESADO EL TRIBUNAL FISCAL EN VARIOS FALL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1143000"/>
            <a:ext cx="9144000" cy="42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L PRESUPUESTO LEGAL DE LA RESPONSABILIDAD A TÍTULO PERSONAL DE LOS DIRECTORES ES </a:t>
            </a:r>
            <a:r>
              <a:rPr b="1" lang="es-ES" sz="1800" spc="-1" strike="noStrike" u="sng">
                <a:solidFill>
                  <a:srgbClr val="000000"/>
                </a:solidFill>
                <a:uFillTx/>
                <a:latin typeface="Arial"/>
                <a:ea typeface="Times New Roman"/>
              </a:rPr>
              <a:t>EL INCUMPLIMIENTO DE SUS DEBERES</a:t>
            </a:r>
            <a:r>
              <a:rPr b="1" lang="es-ES" sz="1800" spc="-1" strike="noStrike">
                <a:solidFill>
                  <a:srgbClr val="000000"/>
                </a:solidFill>
                <a:latin typeface="Arial"/>
                <a:ea typeface="Times New Roman"/>
              </a:rPr>
              <a:t>, DE MANERA TAL QUE NO BASTA QUE HAYA INCUMPLIMIENTO SINO QUE RESULTA MENESTER ADEMÁ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QUE </a:t>
            </a:r>
            <a:r>
              <a:rPr b="1" lang="es-AR" sz="1800" spc="-1" strike="noStrike">
                <a:solidFill>
                  <a:srgbClr val="000000"/>
                </a:solidFill>
                <a:latin typeface="Arial"/>
                <a:ea typeface="Times New Roman"/>
              </a:rPr>
              <a:t>EL INCUMPLIMIENTO </a:t>
            </a:r>
            <a:r>
              <a:rPr b="1" lang="es-ES" sz="1800" spc="-1" strike="noStrike">
                <a:solidFill>
                  <a:srgbClr val="000000"/>
                </a:solidFill>
                <a:latin typeface="Arial"/>
                <a:ea typeface="Times New Roman"/>
              </a:rPr>
              <a:t>LE SEA IMPUTAB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QUE L</a:t>
            </a:r>
            <a:r>
              <a:rPr b="1" lang="es-AR" sz="1800" spc="-1" strike="noStrike">
                <a:solidFill>
                  <a:srgbClr val="000000"/>
                </a:solidFill>
                <a:latin typeface="Arial"/>
                <a:ea typeface="Times New Roman"/>
              </a:rPr>
              <a:t>A SOCIEDAD </a:t>
            </a:r>
            <a:r>
              <a:rPr b="1" lang="es-ES" sz="1800" spc="-1" strike="noStrike">
                <a:solidFill>
                  <a:srgbClr val="000000"/>
                </a:solidFill>
                <a:latin typeface="Arial"/>
                <a:ea typeface="Times New Roman"/>
              </a:rPr>
              <a:t>NO CUMPLA CON LA INTIMACIÓN ADMINISTRATIVA DE PAGO PARA REGULARIZAR SU SITUACIÓN FISCA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Y QUE </a:t>
            </a:r>
            <a:r>
              <a:rPr b="1" lang="es-AR" sz="1800" spc="-1" strike="noStrike">
                <a:solidFill>
                  <a:srgbClr val="000000"/>
                </a:solidFill>
                <a:latin typeface="Arial"/>
                <a:ea typeface="Times New Roman"/>
              </a:rPr>
              <a:t>EL SOLIDARIO NO </a:t>
            </a:r>
            <a:r>
              <a:rPr b="1" lang="es-ES" sz="1800" spc="-1" strike="noStrike">
                <a:solidFill>
                  <a:srgbClr val="000000"/>
                </a:solidFill>
                <a:latin typeface="Arial"/>
                <a:ea typeface="Times New Roman"/>
              </a:rPr>
              <a:t>DEMUESTRE QUE SUS REPRESENTADOS LOS HAN COLOCADO EN LA IMPOSIBILIDAD DE CUMPLIR CON SUS DEBERES FISC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EL REQUISITO DE LA INTIMACIÓN AL DEUDOR PRINCIPA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DISTINTAS CONDUCTAS A ASUMIR POR EL CONTRIBUY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ACTUAL REDACCIÓN DEL ARTÍCULO 18, INCISO A) DE LA LEY DE PROCEDIMIENTO FISCAL ESTABLECE QUE LA RESPONSABILIDAD SOLIDARIA QUEDA CONFIGURADA SI </a:t>
            </a:r>
            <a:r>
              <a:rPr b="1" lang="es-ES" sz="1800" spc="-1" strike="noStrike" u="sng">
                <a:solidFill>
                  <a:srgbClr val="000000"/>
                </a:solidFill>
                <a:uFillTx/>
                <a:latin typeface="Arial"/>
                <a:ea typeface="Times New Roman"/>
              </a:rPr>
              <a:t>“LOS DEUDORES NO CUMPLEN CON LA INTIMACIÓN ADMINISTRATIVA DE PAGO PARA REGULARIZAR SU SITUACIÓN FISCAL DENTRO DEL PLAZO FIJADO POR EL SEGUNDO PÁRRAFO DEL ARTÍCULO 17”. DICHO PLAZO ES DE QUINCE (15) DÍAS HÁBILES ADMINISTRATIV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LA LEY NO ESTABLECE QUE DICHA DEUDA DEBA QUEDAR FIRME EN CABEZA DEL CONTRIBUYENTE</a:t>
            </a:r>
            <a:r>
              <a:rPr b="1" lang="es-AR" sz="1800" spc="-1" strike="noStrike">
                <a:solidFill>
                  <a:srgbClr val="000000"/>
                </a:solidFill>
                <a:latin typeface="Arial"/>
                <a:ea typeface="Times New Roman"/>
              </a:rPr>
              <a:t>, O SEA, SI ÉSTE DISCUTE LA DEUDA ANTE EL TRIBUNAL FISCAL, NO SERÍA NECESARIO QUE EL FISCO ESPERE A QUE SE DICTE SENTENCIA PARA HACER EFECTIVA LA RESPONSABILIDAD SOLIDAR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1828800"/>
            <a:ext cx="9144000" cy="32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Verdana"/>
                <a:ea typeface="Times New Roman"/>
              </a:rPr>
              <a:t>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CORTE SUPREMA DE JUSTICIA DE LA NACIÓN, EN EL FALLO BRUTTI, STELLA MARIS C/ DGI, 30/03/04 DIJO QUE</a:t>
            </a:r>
            <a:r>
              <a:rPr b="1" lang="es-AR"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 NULO POR CARECER DE CAUSA VÁLIDA AL MOMENTO DE SU DICTADO </a:t>
            </a:r>
            <a:r>
              <a:rPr b="1" lang="es-ES" sz="1800" spc="-1" strike="noStrike" u="sng">
                <a:solidFill>
                  <a:srgbClr val="000000"/>
                </a:solidFill>
                <a:uFillTx/>
                <a:latin typeface="Arial"/>
                <a:ea typeface="Times New Roman"/>
              </a:rPr>
              <a:t>EL ACTO DE DETERMINACIÓN DE OFICIO DEL IVA  Y FIJACIÓN DE LA RESPONSABILIDAD SOLIDARIA Y PERSONAL, SI SE LO DICTÓ ANTES DE QUE VENCIERA EL PLAZO DE LA INTIMACIÓN DE PAGO CURSADA AL DEUDOR PRINCIPAL</a:t>
            </a:r>
            <a:r>
              <a:rPr b="1" lang="es-ES" sz="1800" spc="-1" strike="noStrike">
                <a:solidFill>
                  <a:srgbClr val="000000"/>
                </a:solidFill>
                <a:latin typeface="Arial"/>
                <a:ea typeface="Times New Roman"/>
              </a:rPr>
              <a:t>, YA QUE SÓLO ENTONCES PUEDE TENERSE POR CONFIGURADO SU INCUMPLIMIENTO, EL QUE HABILITA EXTENDER, EN FORMA SUBSIDIARIA, LA RESPONSABILIDAD A LOS DEMÁS RESPONSABLES POR DEUDA AJE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523880"/>
            <a:ext cx="91440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EN EXCESO O NO ADEUDADO POR INCONSTITUCIONALIDAD DE LA LEY QUE CONTEMPLA LA OBLIGACIÓN TRIBUTARIA O QUE ELEVA SU MONTO ORIGIN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EN EXCESO O NO ADEUDADO POR HABERSE EFECTUADO PAGOS A CUENTA QUE, LUEGO DE PRACTICADO EL BALANCE IMPOSITIVO, RESULTAN NO TENER CAUSA</a:t>
            </a:r>
            <a:r>
              <a:rPr b="1" lang="es-AR" sz="1600" spc="-1" strike="noStrike">
                <a:solidFill>
                  <a:srgbClr val="000000"/>
                </a:solidFill>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DE UN TRIBUTO EN EXCESO O NO ADEUDADO POR NULIDAD DE LA DETERMINACIÓN DE OFICIO EFECTUADA POR EL FISC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PAGO POR SOLVE ET REPE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PAGO </a:t>
            </a:r>
            <a:r>
              <a:rPr b="1" lang="es-AR" sz="1600" spc="-1" strike="noStrike">
                <a:solidFill>
                  <a:srgbClr val="000000"/>
                </a:solidFill>
                <a:latin typeface="Arial"/>
                <a:ea typeface="Times New Roman"/>
              </a:rPr>
              <a:t>COACTIVO </a:t>
            </a:r>
            <a:r>
              <a:rPr b="1" lang="es-ES" sz="1600" spc="-1" strike="noStrike">
                <a:solidFill>
                  <a:srgbClr val="000000"/>
                </a:solidFill>
                <a:latin typeface="Arial"/>
                <a:ea typeface="Times New Roman"/>
              </a:rPr>
              <a:t>DE </a:t>
            </a:r>
            <a:r>
              <a:rPr b="1" lang="es-AR" sz="1600" spc="-1" strike="noStrike">
                <a:solidFill>
                  <a:srgbClr val="000000"/>
                </a:solidFill>
                <a:latin typeface="Arial"/>
                <a:ea typeface="Times New Roman"/>
              </a:rPr>
              <a:t>UN </a:t>
            </a:r>
            <a:r>
              <a:rPr b="1" lang="es-ES" sz="1600" spc="-1" strike="noStrike">
                <a:solidFill>
                  <a:srgbClr val="000000"/>
                </a:solidFill>
                <a:latin typeface="Arial"/>
                <a:ea typeface="Times New Roman"/>
              </a:rPr>
              <a:t>TRIBUTO </a:t>
            </a:r>
            <a:r>
              <a:rPr b="1" lang="es-AR" sz="1600" spc="-1" strike="noStrike">
                <a:solidFill>
                  <a:srgbClr val="000000"/>
                </a:solidFill>
                <a:latin typeface="Arial"/>
                <a:ea typeface="Times New Roman"/>
              </a:rPr>
              <a:t>EN </a:t>
            </a:r>
            <a:r>
              <a:rPr b="1" lang="es-ES" sz="1600" spc="-1" strike="noStrike">
                <a:solidFill>
                  <a:srgbClr val="000000"/>
                </a:solidFill>
                <a:latin typeface="Arial"/>
                <a:ea typeface="Times New Roman"/>
              </a:rPr>
              <a:t>UN JUICIO DE EJECUCIÓN FISCAL</a:t>
            </a:r>
            <a:r>
              <a:rPr b="1" lang="es-AR" sz="1600" spc="-1" strike="noStrike">
                <a:solidFill>
                  <a:srgbClr val="0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838080"/>
            <a:ext cx="914400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NECESIDAD DE QUE QUEDE FIRME O NO LA DETERMINACIÓN DE OFICIO AL DEUDOR PRINCIP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POSICIÓN DE LA JURISPRUDENCI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ea typeface="Times New Roman"/>
              </a:rPr>
              <a:t>EL ARTÍCULO 18, INC. A) DE LA LEY 11.683</a:t>
            </a:r>
            <a:r>
              <a:rPr b="1" lang="es-AR" sz="1600" spc="-1" strike="noStrike">
                <a:solidFill>
                  <a:srgbClr val="000000"/>
                </a:solidFill>
                <a:latin typeface="Arial"/>
                <a:ea typeface="Times New Roman"/>
              </a:rPr>
              <a:t> </a:t>
            </a:r>
            <a:r>
              <a:rPr b="1" lang="es-AR" sz="1600" spc="-1" strike="noStrike" u="sng">
                <a:solidFill>
                  <a:srgbClr val="000000"/>
                </a:solidFill>
                <a:uFillTx/>
                <a:latin typeface="Arial"/>
                <a:ea typeface="Times New Roman"/>
              </a:rPr>
              <a:t>NO REQUIERE, PARA FIJAR LA OBLIGACIÓN TRIBUTARIA DE AQUELLOS, QUE EL AJUSTE SE ENCUENTRE FIRME, SINO QUE BASTA CON LA MERA INTIMACIÓN ADMINISTRATIVA Y EL VENCIMIENTO DEL PLAZO DE 15 DÍ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ÁMARA NACIONAL DE APELACIONES EN LO CONTENCIOSO ADMINISTRATIVO FEDERAL, </a:t>
            </a:r>
            <a:r>
              <a:rPr b="1" lang="es-ES" sz="1600" spc="-1" strike="noStrike" u="sng">
                <a:solidFill>
                  <a:srgbClr val="000000"/>
                </a:solidFill>
                <a:uFillTx/>
                <a:latin typeface="Arial"/>
                <a:ea typeface="Times New Roman"/>
              </a:rPr>
              <a:t>SALA II</a:t>
            </a:r>
            <a:r>
              <a:rPr b="1" lang="es-ES" sz="1600" spc="-1" strike="noStrike">
                <a:solidFill>
                  <a:srgbClr val="000000"/>
                </a:solidFill>
                <a:latin typeface="Arial"/>
                <a:ea typeface="Times New Roman"/>
              </a:rPr>
              <a:t>, 12/06/07, EN TROILO, MAURO GUSTAVO Y OTRO C. DG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CÁMARA NACIONAL DE APELACIONES EN LO CONTENCIOSOADMINISTRATIVO FEDERAL, SALA II, 07/06/2007, CLUB SAN LORENZ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CÁMARA NACIONAL DE APELACIONES EN LO CONTENCIOSOADMINISTRATIVO FEDERAL, SALA II, 08/06/2010, LAPIDUZ BENJAMÍN BORIS C. DG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CÁMARA NACIONAL DE APELACIONES EN LO CONTENCIOSOADMINISTRATIVO FEDERAL, SALA II, 29/03/2011, GALMORE SA. C. DG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14300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LA DEUDA DEBE QUEDAR FIRME CON RELACIÓN AL CONTRIBUYENTE PARA PODER HACER EFECTIVA LA RESPONSABILIDAD SOLIDARI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CÁMARA NACIONAL DE APELACIONES EN LO CONTENCIOSO ADMINISTRATIVO FEDERAL </a:t>
            </a:r>
            <a:r>
              <a:rPr b="1" lang="es-AR" sz="1800" spc="-1" strike="noStrike" u="sng">
                <a:solidFill>
                  <a:srgbClr val="000000"/>
                </a:solidFill>
                <a:uFillTx/>
                <a:latin typeface="Arial"/>
                <a:ea typeface="Times New Roman"/>
              </a:rPr>
              <a:t>SALA I,</a:t>
            </a:r>
            <a:r>
              <a:rPr b="1" lang="es-AR" sz="1800" spc="-1" strike="noStrike">
                <a:solidFill>
                  <a:srgbClr val="000000"/>
                </a:solidFill>
                <a:latin typeface="Arial"/>
                <a:ea typeface="Times New Roman"/>
              </a:rPr>
              <a:t> 1/10/08, “GEORGALOS HNOS. S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CÁMARA NACIONAL DE APELACIONES EN LO CONTENCIOSO ADMINISTRATIVO FEDERAL, </a:t>
            </a:r>
            <a:r>
              <a:rPr b="1" lang="es-AR" sz="1800" spc="-1" strike="noStrike" u="sng">
                <a:solidFill>
                  <a:srgbClr val="000000"/>
                </a:solidFill>
                <a:uFillTx/>
                <a:latin typeface="Arial"/>
                <a:ea typeface="Times New Roman"/>
              </a:rPr>
              <a:t>SALA III</a:t>
            </a:r>
            <a:r>
              <a:rPr b="1" lang="es-AR" sz="1800" spc="-1" strike="noStrike">
                <a:solidFill>
                  <a:srgbClr val="000000"/>
                </a:solidFill>
                <a:latin typeface="Arial"/>
                <a:ea typeface="Times New Roman"/>
              </a:rPr>
              <a:t>, 19/03/2009, EN HOLDING MARÍTIMAS Y PORTUARIA S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Times New Roman"/>
              </a:rPr>
              <a:t>CÁMARA NACIONAL DE APELACIONES EN LO CONTENCIOSO ADMINISTRATIVO FEDERAL, </a:t>
            </a:r>
            <a:r>
              <a:rPr b="1" lang="es-AR" sz="1800" spc="-1" strike="noStrike" u="sng">
                <a:solidFill>
                  <a:srgbClr val="000000"/>
                </a:solidFill>
                <a:uFillTx/>
                <a:latin typeface="Arial"/>
                <a:ea typeface="Times New Roman"/>
              </a:rPr>
              <a:t>SALA IV</a:t>
            </a:r>
            <a:r>
              <a:rPr b="1" lang="es-AR" sz="1800" spc="-1" strike="noStrike">
                <a:solidFill>
                  <a:srgbClr val="000000"/>
                </a:solidFill>
                <a:latin typeface="Arial"/>
                <a:ea typeface="Times New Roman"/>
              </a:rPr>
              <a:t>, 15/07/99, EN CLUB ATLÉTICO ADELANTE ASOCIACIÓN CIVIL Y DEPORTIVA C. DG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609480"/>
            <a:ext cx="9144000" cy="554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AL RESPONSABLE SOLIDARIO SE LE DEBE DETERMINAR EL IMPUESTO Y ADEMÁS EXIGIRLO? ¿SE CUMPLE CON LA TEORÍA DE LA SUBSIDIARIDAD?</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ES FACULTATIVO DE LA AFIP INICIAR EL PROCEDIMIENTO DE DETERMINACIÓN DE OFICIO SIMULTÁNEAMENTE AL EL DEUDOR PRINCIPAL  Y AL RESPONSABLE SOLIDAR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SIEMPRE QUE SE POSTERGUE LA INTIMACIÓN DE PAGO DE ESTE ÚLTIMO HASTA QUE EL PRINCIPAL INCUMPLA CON SU OBLIGACIÓN DE PAGO. </a:t>
            </a:r>
            <a:r>
              <a:rPr b="1" lang="es-AR" sz="1600" spc="-1" strike="noStrike" u="sng">
                <a:solidFill>
                  <a:srgbClr val="000000"/>
                </a:solidFill>
                <a:uFillTx/>
                <a:latin typeface="Arial"/>
                <a:ea typeface="Times New Roman"/>
              </a:rPr>
              <a:t>DICTAMEN 28/98 DG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CORTE SUPREMA DE JUSTICIA DE LA NACIÓN • 30/03/2004 • BRUTTI, STELLA MARIS C. DIRECCIÓN GRAL. IMPOSITIV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SI BIEN NO EXISTE OBSTÁCULO LEGAL PARA QUE EL FISCO COMIENCE EL PROCEDIMIENTO DE DETERMINACIÓN DE OFICIO DEL IMPUESTO AL VALOR AGREGADO PARA VERIFICAR LA EVENTUAL RESPONSABILIDAD PERSONAL Y SOLIDARIA SEGÚN ART. 18, INC. A) DE LA LEY 11.683, T.O. 1978 (ADLA, LVIII-C, 2969), ANTES DE INTIMAR DE PAGO AL DEUDOR PRINCIPAL, </a:t>
            </a:r>
            <a:r>
              <a:rPr b="1" lang="es-AR" sz="1600" spc="-1" strike="noStrike" u="sng">
                <a:solidFill>
                  <a:srgbClr val="000000"/>
                </a:solidFill>
                <a:uFillTx/>
                <a:latin typeface="Arial"/>
                <a:ea typeface="Times New Roman"/>
              </a:rPr>
              <a:t>LA RESOLUCIÓN POR LA CUAL SE DETERMINA DE OFICIO DICHO TRIBUTO Y SE FIJA LA RESPONSABILIDAD SOLIDARIA Y PERSONAL DEL RESPONSABLE POR DEUDA AJENA NO PUEDE DICTARSE VÁLIDAMENTE ANTES DEL VENCIMIENTO DEL PLAZO DE LA INTIMACIÓN DE PAGO CURSADA AL DEUDOR PRINCIPAL</a:t>
            </a:r>
            <a:r>
              <a:rPr b="1" lang="es-AR" sz="1600" spc="-1" strike="noStrike">
                <a:solidFill>
                  <a:srgbClr val="000000"/>
                </a:solidFill>
                <a:latin typeface="Arial"/>
                <a:ea typeface="Times New Roman"/>
              </a:rPr>
              <a:t> (DEL DICTAMEN DEL PROCURADOR GENERAL QUE LA CORTE HACE SUY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066680"/>
            <a:ext cx="91440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BASES EN LAS CUALES BASA SU DEFENSA EL SOLIDARI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LEY Nº 11.883 EN SU ARTÍCULO 8, DISPONE QUE</a:t>
            </a:r>
            <a:r>
              <a:rPr b="1" lang="es-AR" sz="1800" spc="-1" strike="noStrike">
                <a:solidFill>
                  <a:srgbClr val="000000"/>
                </a:solidFill>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NO EXISTIRÁ RESPONSABILIDAD PERSONAL Y SOLIDARIA EN LA MEDIDA EN QUE LOS DIRECTORES DE LA SOCIEDAD DEMUESTREN DEBIDAMENTE AL ORGANISMO FISCAL QUE SUS REPRESENTADOS O MANDANTES LOS HAN COLOCADO EN LA IMPOSIBILIDAD DE CUMPLIR CORRECTA Y OPORTUNAMENTE CON SUS DEBERES FISCALES</a:t>
            </a: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RRESPONDE, PUES, AL RESPONSABLE SOLIDARIO APORTAR LA PRUEBA NECESARIA PARA DESVIRTUAR LA RESPONSABILIDAD SOLIDARIA IMPUTADA </a:t>
            </a:r>
            <a:r>
              <a:rPr b="1" lang="es-AR" sz="1800" spc="-1" strike="noStrike">
                <a:solidFill>
                  <a:srgbClr val="000000"/>
                </a:solidFill>
                <a:latin typeface="Arial"/>
                <a:ea typeface="Times New Roman"/>
              </a:rPr>
              <a:t>POR SU </a:t>
            </a:r>
            <a:r>
              <a:rPr b="1" lang="es-ES" sz="1800" spc="-1" strike="noStrike">
                <a:solidFill>
                  <a:srgbClr val="000000"/>
                </a:solidFill>
                <a:latin typeface="Arial"/>
                <a:ea typeface="Times New Roman"/>
              </a:rPr>
              <a:t> ACTUACIÓN CONCRETA Y ESPECÍFICA EN  LA SOCIE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Times New Roman"/>
              </a:rPr>
              <a:t>L</a:t>
            </a:r>
            <a:r>
              <a:rPr b="1" lang="es-ES" sz="1800" spc="-1" strike="noStrike" u="sng">
                <a:solidFill>
                  <a:srgbClr val="000000"/>
                </a:solidFill>
                <a:uFillTx/>
                <a:latin typeface="Arial"/>
                <a:ea typeface="Times New Roman"/>
              </a:rPr>
              <a:t>A EX DGI EN EL DICTAMEN Nº 79/71 (DATYJ) </a:t>
            </a:r>
            <a:r>
              <a:rPr b="1" lang="es-AR" sz="1800" spc="-1" strike="noStrike" u="sng">
                <a:solidFill>
                  <a:srgbClr val="000000"/>
                </a:solidFill>
                <a:uFillTx/>
                <a:latin typeface="Arial"/>
                <a:ea typeface="Times New Roman"/>
              </a:rPr>
              <a:t> </a:t>
            </a:r>
            <a:r>
              <a:rPr b="1" lang="es-ES" sz="1800" spc="-1" strike="noStrike" u="sng">
                <a:solidFill>
                  <a:srgbClr val="000000"/>
                </a:solidFill>
                <a:uFillTx/>
                <a:latin typeface="Arial"/>
                <a:ea typeface="Times New Roman"/>
              </a:rPr>
              <a:t>HA DEJADO SENTADO QUE:</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1º) LA RESPONSABILIDAD PERSONAL Y SOLIDARIA DE LOS DIRECTORES  DE UNA SOCIEDAD ANÓNIMA RESPECTO DEL IMPUESTO DEJADO DE OBLAR POR LA  MISMA (ARTÍCULO 18, LEY Nº 11.683), DEBE ESTABLECERSE  MEDIANTE UN PROCEDIMIENTO QUE PERMITA A LOS MISMOS EL LIBRE EJERCICIO  DE SU DERECHO DE DEFENSA.</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2º) LA DEFENSA PUEDE VERSAR: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OBRE CIRCUNSTANCIAS DE HECHO O DERECHO POR LAS CUALES RESULTA QUE NO HAN INVESTIDO LA REPRESENTACIÓN  INVOCADA POR EL FISCO O NO HAN DISPUESTO DE LOS PODERES NECESARIOS PARA CUMPLIMENTAR LA OBLIGACIÓN IMPOSITIVA EN INFRACCIÓN;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S EXCEPCIONES QUE CORRESPONDAN ACERCA DE LA EXISTENCIA Y EXIGIBILIDAD DE ESA MISMA OBLIGACIÓN;</a:t>
            </a:r>
            <a:endParaRPr b="0" lang="en-US" sz="1800" spc="-1" strike="noStrike">
              <a:solidFill>
                <a:srgbClr val="000000"/>
              </a:solidFill>
              <a:latin typeface="Times New Roman"/>
            </a:endParaRPr>
          </a:p>
          <a:p>
            <a:pPr marL="457200" indent="-457200" algn="just">
              <a:lnSpc>
                <a:spcPct val="100000"/>
              </a:lnSpc>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EXCUSABILIDAD DE SU PROPIA CONDUCTA COMO REPRESENTANT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914400"/>
            <a:ext cx="91440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LA CÁMARA NACIONAL DE APELACIONES EN LO CONTENCIOSO ADMINISTRATIVO, POR SU PARTE, HA DICHO QUE</a:t>
            </a:r>
            <a:r>
              <a:rPr b="1" lang="es-AR" sz="2000" spc="-1" strike="noStrike">
                <a:solidFill>
                  <a:srgbClr val="000000"/>
                </a:solidFill>
                <a:latin typeface="Arial"/>
                <a:ea typeface="Times New Roman"/>
              </a:rPr>
              <a:t>:</a:t>
            </a: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L PRESIDENTE Y VICEPRESIDENTE NO PUEDEN LIBERARSE DE SU RESPONSABILIDAD POR EL INCUMPLIMIENTO DE LAS OBLIGACIONES TRIBUTARIAS DE LA SOCIEDAD, CON FUNDAMENTO EN LA ASIGNACIÓN DE UN GERENTE CON AMPLIAS FACULTADES EN MATERIA DE ADMINISTRACIÓ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TAMBIÉN EL TRIBUNAL FISCAL SE HA PRONUNCIADO MANIFESTANDO QUE A FIN DE EFECTIVIZAR LA RESPONSABILIDAD SOLIDARIA DEL PRESIDENTE DE LA SOCIEDAD, LOS ACUERDOS INTERNOS RESPECTO DEL MANEJO DE LOS ASUNTOS SOCIALES DE NINGÚN MODO OBSTAN A LA RESPONSABILIDAD LEGAL Y ESTATUTARIA ESTABLECIDA A SU RESPEC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914400"/>
            <a:ext cx="91440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Times New Roman"/>
              </a:rPr>
              <a:t>¿SE PUEDE REALIZAR EL EMBARGO PREVENTIVO AL SOLIDAR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ARTICULO 111</a:t>
            </a:r>
            <a:r>
              <a:rPr b="1" lang="es-AR" sz="2000" spc="-1" strike="noStrike">
                <a:solidFill>
                  <a:srgbClr val="000000"/>
                </a:solidFill>
                <a:latin typeface="Arial"/>
                <a:ea typeface="Times New Roman"/>
              </a:rPr>
              <a:t> LEY 1168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Times New Roman"/>
              </a:rPr>
              <a:t>EN CUALQUIER MOMENTO LA ADMINISTRACION FEDERAL DE INGRESOS PUBLICOS PODRÁ SOLICITAR EMBARGO PREVENTIVO, O EN SU DEFECTO, INHIBICIÓN GENERAL DE BIENES POR LA CANTIDAD QUE PRESUMIBLEMENTE </a:t>
            </a:r>
            <a:r>
              <a:rPr b="1" lang="es-ES" sz="2000" spc="-1" strike="noStrike" u="sng">
                <a:solidFill>
                  <a:srgbClr val="000000"/>
                </a:solidFill>
                <a:uFillTx/>
                <a:latin typeface="Arial"/>
                <a:ea typeface="Times New Roman"/>
              </a:rPr>
              <a:t>ADEUDEN LOS CONTRIBUYENTES O RESPONSABLES O QUIENES PUEDAN RESULTAR DEUDORES SOLIDARIOS</a:t>
            </a:r>
            <a:r>
              <a:rPr b="1" lang="es-ES" sz="2000" spc="-1" strike="noStrike">
                <a:solidFill>
                  <a:srgbClr val="000000"/>
                </a:solidFill>
                <a:latin typeface="Arial"/>
                <a:ea typeface="Times New Roman"/>
              </a:rPr>
              <a:t> Y LOS JUECES DEBERÁN DECRETARLO EN EL TÉRMINO DE VEINTICUATRO (24) HORAS, ANTE E</a:t>
            </a:r>
            <a:r>
              <a:rPr b="1" lang="es-AR" sz="2000" spc="-1" strike="noStrike">
                <a:solidFill>
                  <a:srgbClr val="000000"/>
                </a:solidFill>
                <a:latin typeface="Arial"/>
                <a:ea typeface="Times New Roman"/>
              </a:rPr>
              <a:t>l </a:t>
            </a:r>
            <a:r>
              <a:rPr b="1" lang="es-ES" sz="2000" spc="-1" strike="noStrike">
                <a:solidFill>
                  <a:srgbClr val="000000"/>
                </a:solidFill>
                <a:latin typeface="Arial"/>
                <a:ea typeface="Times New Roman"/>
              </a:rPr>
              <a:t>SOLO PEDIDO DEL FISCO Y BAJO LA RESPONSABILIDAD DE É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907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ÁMARA NACIONAL DE APELACIONES EN LO CONTENCIOSOADMINISTRATIVO FEDERAL, SALA III FECHA: 20/06/1995  FISCO NACIONAL - D.G.I. C. PERES, HUGO LIBERTARIO S. MEDIDA CAUTEL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EL FISCO PUEDE PEDIR EMBARGO PREVENTIVO O INHIBICIÓN GENERAL DE BIENES</a:t>
            </a:r>
            <a:r>
              <a:rPr b="1" lang="en-US" sz="1800" spc="-1" strike="noStrike">
                <a:solidFill>
                  <a:srgbClr val="000000"/>
                </a:solidFill>
                <a:latin typeface="Arial"/>
                <a:ea typeface="Times New Roman"/>
              </a:rPr>
              <a:t> AUNQUE LA DEUDA ESTÉ EN DISCUSIÓN ANTE EL TRIBUNAL FISCAL. ELLO ES ASÍ, PUES LA INTERPOSICIÓN DEL RECURSO SÓLO SUSPENDE LA INTIMACIÓN DE PAGO Y NO, EN CAMBIO, LA TRABA DE MEDIDAS PRECAUTORIAS. EL PEDIDO CAUTELAR DEL FISCO SE SUSTENTA EN QUE EN CUALQUIER MOMENTO LA D.G.I. PUEDE SOLICITAR EMBARGO PREVENTIVO, O EN SU DEFECTO, INHIBICIÓN GENERAL DE BIENES POR LA CANTIDAD QUE PRESUMIBLEMENTE ADEUDEN LOS CONTRIBUYENTES O RESPONSABLES </a:t>
            </a:r>
            <a:r>
              <a:rPr b="1" lang="en-US" sz="1800" spc="-1" strike="noStrike" u="sng">
                <a:solidFill>
                  <a:srgbClr val="000000"/>
                </a:solidFill>
                <a:uFillTx/>
                <a:latin typeface="Arial"/>
                <a:ea typeface="Times New Roman"/>
              </a:rPr>
              <a:t>O</a:t>
            </a:r>
            <a:r>
              <a:rPr b="1" lang="en-US" sz="1800" spc="-1" strike="noStrike">
                <a:solidFill>
                  <a:srgbClr val="000000"/>
                </a:solidFill>
                <a:latin typeface="Arial"/>
                <a:ea typeface="Times New Roman"/>
              </a:rPr>
              <a:t> </a:t>
            </a:r>
            <a:r>
              <a:rPr b="1" lang="en-US" sz="1800" spc="-1" strike="noStrike" u="sng">
                <a:solidFill>
                  <a:srgbClr val="000000"/>
                </a:solidFill>
                <a:uFillTx/>
                <a:latin typeface="Arial"/>
                <a:ea typeface="Times New Roman"/>
              </a:rPr>
              <a:t>QUIENES PUEDAN RESULTAR DEUDORES SOLIDARIOS</a:t>
            </a:r>
            <a:r>
              <a:rPr b="1" lang="en-US" sz="1800" spc="-1" strike="noStrike">
                <a:solidFill>
                  <a:srgbClr val="000000"/>
                </a:solidFill>
                <a:latin typeface="Arial"/>
                <a:ea typeface="Times New Roman"/>
              </a:rPr>
              <a:t> (ARTÍCULO 109, LEY Nº 11.683).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762120"/>
            <a:ext cx="91440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REQUISITOS PARA LA PROCEDENCIA DE LA ACCIÓN</a:t>
            </a:r>
            <a:r>
              <a:rPr b="1" lang="es-ES" sz="1600" spc="-1" strike="noStrike">
                <a:solidFill>
                  <a:srgbClr val="000000"/>
                </a:solidFill>
                <a:latin typeface="Arial"/>
                <a:ea typeface="Times New Roman"/>
              </a:rPr>
              <a:t> </a:t>
            </a:r>
            <a:r>
              <a:rPr b="1" lang="es-ES" sz="1600" spc="-1" strike="noStrike" u="sng">
                <a:solidFill>
                  <a:srgbClr val="000000"/>
                </a:solidFill>
                <a:uFillTx/>
                <a:latin typeface="Arial"/>
                <a:ea typeface="Times New Roman"/>
              </a:rPr>
              <a:t>DE REPETICIÓN</a:t>
            </a:r>
            <a:r>
              <a:rPr b="1" lang="es-ES" sz="1600" spc="-1" strike="noStrike">
                <a:solidFill>
                  <a:srgbClr val="000000"/>
                </a:solidFill>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ON REQUISI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QUE HAYA PAG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QUE EL PAGO SEA INDEBIDO, O SEA POR ERROR O SIN CAUS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CONCEPTOS REPETIBL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TRIBUTOS Y SUS ACCESORI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NO SON REPETIBLES INTERESES PUNITORIOS, GASTOS CAUSÍDICOS Y</a:t>
            </a:r>
            <a:r>
              <a:rPr b="1" lang="es-AR" sz="1600" spc="-1" strike="noStrike">
                <a:solidFill>
                  <a:srgbClr val="000000"/>
                </a:solidFill>
                <a:latin typeface="Arial"/>
                <a:ea typeface="Times New Roman"/>
              </a:rPr>
              <a:t> </a:t>
            </a:r>
            <a:r>
              <a:rPr b="1" lang="es-ES" sz="1600" spc="-1" strike="noStrike">
                <a:solidFill>
                  <a:srgbClr val="000000"/>
                </a:solidFill>
                <a:latin typeface="Arial"/>
                <a:ea typeface="Times New Roman"/>
              </a:rPr>
              <a:t>MULTAS SALVO LAS CONSENTIDAS Y SOLO EN LA PARTE PROPORCIONAL AL IMPUESTO QUE SE REPI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914400"/>
            <a:ext cx="9144000" cy="313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Times New Roman"/>
              </a:rPr>
              <a:t>LAS VIAS PARA REPETIR SON DISTINTAS</a:t>
            </a:r>
            <a:r>
              <a:rPr b="1" lang="es-ES" sz="1600" spc="-1" strike="noStrike">
                <a:solidFill>
                  <a:srgbClr val="000000"/>
                </a:solidFill>
                <a:latin typeface="Arial"/>
                <a:ea typeface="Times New Roman"/>
              </a:rPr>
              <a:t> SEGÚN SI EL PAGO SE  PRODUJO EN FORMA </a:t>
            </a:r>
            <a:r>
              <a:rPr b="1" lang="es-ES" sz="1600" spc="-1" strike="noStrike" u="sng">
                <a:solidFill>
                  <a:srgbClr val="000000"/>
                </a:solidFill>
                <a:uFillTx/>
                <a:latin typeface="Arial"/>
                <a:ea typeface="Times New Roman"/>
              </a:rPr>
              <a:t>VOLUNTARIA O ESPONTÁNEA</a:t>
            </a:r>
            <a:r>
              <a:rPr b="1" lang="es-AR" sz="1600" spc="-1" strike="noStrike" u="sng">
                <a:solidFill>
                  <a:srgbClr val="000000"/>
                </a:solidFill>
                <a:uFillTx/>
                <a:latin typeface="Arial"/>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I) PAGO ESPONTÁNE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LA CORTE SUPREMA DE JUSTICIA DE LA NACIÓN EN FIAT CONCORD SA, 12/9/1985</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SEÑALÓ QUE DEL TEXTO DEL ARTÍCULO 81 DE LA LEY 11683 SE DESPRENDE QUE CONSTITUYE PAGO ESPONTÁNEO </a:t>
            </a:r>
            <a:r>
              <a:rPr b="1" lang="es-ES" sz="1600" spc="-1" strike="noStrike" u="sng">
                <a:solidFill>
                  <a:srgbClr val="000000"/>
                </a:solidFill>
                <a:uFillTx/>
                <a:latin typeface="Arial"/>
                <a:ea typeface="Times New Roman"/>
              </a:rPr>
              <a:t>AQUEL QUE EL CONTRIBUYENTE REALICE EN FORMA VOLUNTARIA, SIN QUE MEDIE UNA DETERMINACIÓN CIERTA O PRESUNTIVA DE LA AFIP.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371600"/>
            <a:ext cx="9144000" cy="307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RECLAMO ADMINISTRATIVO PREVIO</a:t>
            </a:r>
            <a:r>
              <a:rPr b="1" lang="es-AR" sz="1800" spc="-1" strike="noStrike" u="sng">
                <a:solidFill>
                  <a:srgbClr val="000000"/>
                </a:solidFill>
                <a:uFillTx/>
                <a:latin typeface="Arial"/>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EL ESCRITO DE RECLAMO DEBERÁ CONTENER</a:t>
            </a:r>
            <a:r>
              <a:rPr b="1" lang="es-AR" sz="1600" spc="-1" strike="noStrike">
                <a:solidFill>
                  <a:srgbClr val="000000"/>
                </a:solidFill>
                <a:latin typeface="Arial"/>
                <a:ea typeface="Times New Roman"/>
              </a:rPr>
              <a:t> </a:t>
            </a:r>
            <a:r>
              <a:rPr b="1" lang="es-ES" sz="1600" spc="-1" strike="noStrike">
                <a:solidFill>
                  <a:srgbClr val="000000"/>
                </a:solidFill>
                <a:latin typeface="Arial"/>
                <a:ea typeface="Times New Roman"/>
              </a:rPr>
              <a:t>LAS CAUSAS CONCRETAS QUE MOTIVARON EL PAGO EN EXCESO</a:t>
            </a:r>
            <a:r>
              <a:rPr b="1" lang="es-AR" sz="1600" spc="-1" strike="noStrike">
                <a:solidFill>
                  <a:srgbClr val="000000"/>
                </a:solidFill>
                <a:latin typeface="Arial"/>
                <a:ea typeface="Times New Roman"/>
              </a:rPr>
              <a:t>,</a:t>
            </a:r>
            <a:r>
              <a:rPr b="1" lang="es-ES" sz="1600" spc="-1" strike="noStrike">
                <a:solidFill>
                  <a:srgbClr val="000000"/>
                </a:solidFill>
                <a:latin typeface="Arial"/>
                <a:ea typeface="Times New Roman"/>
              </a:rPr>
              <a:t> COMO ASIMISMO LA INDIVIDUALIZACIÓN DE LAS SUMAS Y CONCEPTOS RECLAMADOS, DEBIENDO APORTARSE LAS PRUEBAS CORRESPONDIENTES A TAL FI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Times New Roman"/>
              </a:rPr>
              <a:t>TRANSCURRIDOS  3 MESES DESDE EL RECLAMO ADMINISTRATIVO</a:t>
            </a:r>
            <a:r>
              <a:rPr b="1" lang="es-ES" sz="1600" spc="-1" strike="noStrike">
                <a:solidFill>
                  <a:srgbClr val="000000"/>
                </a:solidFill>
                <a:latin typeface="Arial"/>
                <a:ea typeface="Times New Roman"/>
              </a:rPr>
              <a:t> SIN QUE LA AFIP HUBIERA DICTADO RESOLUCIÓN EXPIDIÉNDOSE SOBRE EL MISMO, O SI LA RESOLUCIÓN DEL ORGANISMO FISCAL DENEGARA LA REPETICIÓN INTENTADA, SE PODRÁ INTERPONER CUALESQUIERA DE LAS SIGUIENTES VÍAS RECURSIV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752480"/>
            <a:ext cx="9144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CURSO DE RECONSIDERACIÓN  ANTE</a:t>
            </a:r>
            <a:r>
              <a:rPr b="1" lang="es-AR" sz="1800" spc="-1" strike="noStrike">
                <a:solidFill>
                  <a:srgbClr val="000000"/>
                </a:solidFill>
                <a:latin typeface="Arial"/>
                <a:ea typeface="Times New Roman"/>
              </a:rPr>
              <a:t>LA DGI</a:t>
            </a:r>
            <a:r>
              <a:rPr b="1" lang="es-ES" sz="1800" spc="-1" strike="noStrike">
                <a:solidFill>
                  <a:srgbClr val="000000"/>
                </a:solidFill>
                <a:latin typeface="Arial"/>
                <a:ea typeface="Times New Roman"/>
              </a:rPr>
              <a:t> [ART. 76, INC. 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CURSO DE APELACIÓN POR DENEGATORIA DE REPETICIÓN ANTE EL TRIBUNAL FISCAL DE LA NACIÓN [ART. 76, INC. B).</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MANDA CONTENCIOSA ANTE LA JUSTICIA NACIONAL O FEDERAL DE PRIMERA INSTANCIA (ART. 83)</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219320"/>
            <a:ext cx="9144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Times New Roman"/>
              </a:rPr>
              <a:t>II) PAGO A REQUERIMIENTO DE LA AFIP</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 DECIR, QUE EL PAGO PUEDE RESULTAR  PROVENIENTE D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DETERMINACIÓN DE OFICI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IQUIDACIÓN ADMINISTRATIV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JECUCIÓN FISCA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5:19:21Z</dcterms:created>
  <dc:creator>Neo</dc:creator>
  <dc:description/>
  <dc:language>en-US</dc:language>
  <cp:lastModifiedBy>Neo</cp:lastModifiedBy>
  <dcterms:modified xsi:type="dcterms:W3CDTF">2011-11-02T18:19:08Z</dcterms:modified>
  <cp:revision>75</cp:revision>
  <dc:subject/>
  <dc:title>Presentación de PowerPoint</dc:title>
</cp:coreProperties>
</file>